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2068-4F33-4AE8-A2B7-EEAE8AE5F15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D2D8-470C-46BF-87A3-097A4697F28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-1960560" y="466560"/>
            <a:ext cx="10906200" cy="8180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61640" y="8670960"/>
            <a:ext cx="6538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58DD-373A-4692-9372-C4DFA609A5D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-1960560" y="466560"/>
            <a:ext cx="10906200" cy="81806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61640" y="8670960"/>
            <a:ext cx="6538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BA7E-5F17-4766-8F2B-EB404311644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-1960560" y="466560"/>
            <a:ext cx="10906200" cy="81806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61640" y="8670960"/>
            <a:ext cx="6538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689C-478E-49A4-882B-98BA6618B70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-1960560" y="466560"/>
            <a:ext cx="10906200" cy="8180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61640" y="8670960"/>
            <a:ext cx="6538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A92E-8E30-453F-A620-9CE22AA3EF9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-1960560" y="466560"/>
            <a:ext cx="10906200" cy="8180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61640" y="8670960"/>
            <a:ext cx="6538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1285-73B6-43AD-B87F-CF325A94B8E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-1960560" y="466560"/>
            <a:ext cx="10906200" cy="8180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61640" y="8670960"/>
            <a:ext cx="6538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9120-2E16-4CAE-8A7C-A0E4013C887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-1960560" y="466560"/>
            <a:ext cx="10906200" cy="8180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61640" y="8670960"/>
            <a:ext cx="6538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7DCE-9A0B-407A-937C-124597F6CFA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960560" y="466560"/>
            <a:ext cx="10906200" cy="8180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61640" y="8670960"/>
            <a:ext cx="6538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A1CF-4E81-4880-9458-920F0A28A08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-1960560" y="466560"/>
            <a:ext cx="10906200" cy="8180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61640" y="8670960"/>
            <a:ext cx="6538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7BC7-27CD-4D2A-B17F-5B7944AACC2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-1960560" y="466560"/>
            <a:ext cx="10906200" cy="81806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61640" y="8670960"/>
            <a:ext cx="6538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FBF0-5DF2-451E-A488-487CEA1F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DC2-AD09-4708-B60F-4E5BAA4C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CE53-8A38-4D03-87AF-A12BAAA6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01E7-FF8C-453F-9AAB-EFD4CFAA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432-3C23-42BE-BD75-903588B9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1865-6E43-4FAA-82A8-C035164D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D094-17D3-4E70-976F-AA406EA6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E44-CC3B-4F26-AB71-B3ACDDC4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279B-9594-4F97-9660-02CAD563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4B6-3DB9-44C5-8031-DCAC6B73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2AB-400D-4415-8AFE-530BF22B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5821-0132-4446-8251-13B0F780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8B5D-23BA-40C4-BE1F-999A0DB2CE0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ub Title"/>
          <p:cNvSpPr/>
          <p:nvPr/>
        </p:nvSpPr>
        <p:spPr>
          <a:xfrm>
            <a:off x="6000840" y="5214960"/>
            <a:ext cx="290340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120" bIns="421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31 marzo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Diagramma 9" descr=""/>
          <p:cNvPicPr/>
          <p:nvPr/>
        </p:nvPicPr>
        <p:blipFill>
          <a:blip r:embed="rId1"/>
          <a:stretch/>
        </p:blipFill>
        <p:spPr>
          <a:xfrm>
            <a:off x="695160" y="414360"/>
            <a:ext cx="8040960" cy="1670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13840" y="2741760"/>
            <a:ext cx="657252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andara"/>
              </a:rPr>
              <a:t>Studio di fattibilità per l’integrazione con i sistemi gestionali</a:t>
            </a:r>
            <a:r>
              <a:rPr b="0" i="1" lang="it-IT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numero diapositiva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8EF0-CD4C-4A39-ADD3-32ABC8D2E3E8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igura a mano libera 19"/>
          <p:cNvSpPr/>
          <p:nvPr/>
        </p:nvSpPr>
        <p:spPr>
          <a:xfrm>
            <a:off x="615960" y="1528920"/>
            <a:ext cx="7945560" cy="610920"/>
          </a:xfrm>
          <a:prstGeom prst="pi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61200" bIns="6120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it-IT" sz="1600" spc="-1" strike="noStrike">
                <a:solidFill>
                  <a:srgbClr val="eeece1"/>
                </a:solidFill>
                <a:latin typeface="Candara"/>
              </a:rPr>
              <a:t>Nella stampa della Scheda Movimentazione andrebbe valutata la possibilità di automazione del riconoscimento dell’ID SISTRI (lettura OCR, codice a barre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itle1"/>
          <p:cNvSpPr/>
          <p:nvPr/>
        </p:nvSpPr>
        <p:spPr>
          <a:xfrm>
            <a:off x="1147680" y="928800"/>
            <a:ext cx="6424560" cy="4284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  <a:effectLst>
            <a:outerShdw dist="12727" dir="81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b">
            <a:noAutofit/>
          </a:bodyPr>
          <a:p>
            <a:pPr algn="ctr">
              <a:lnSpc>
                <a:spcPct val="100000"/>
              </a:lnSpc>
              <a:spcAft>
                <a:spcPts val="1225"/>
              </a:spcAft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Prerequisiti per l’integrazion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igura a mano libera 8"/>
          <p:cNvSpPr/>
          <p:nvPr/>
        </p:nvSpPr>
        <p:spPr>
          <a:xfrm>
            <a:off x="615960" y="2174760"/>
            <a:ext cx="7945560" cy="540000"/>
          </a:xfrm>
          <a:prstGeom prst="pi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61200" bIns="6120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it-IT" sz="1600" spc="-1" strike="noStrike">
                <a:solidFill>
                  <a:srgbClr val="eeece1"/>
                </a:solidFill>
                <a:latin typeface="Candara"/>
              </a:rPr>
              <a:t>Estensione del Sistri (volontaria, senza tracciare il percorso) anche i rifiuti urbani con i criteri di interoperabilità esplicitati nelle slides preceden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igura a mano libera 6"/>
          <p:cNvSpPr/>
          <p:nvPr/>
        </p:nvSpPr>
        <p:spPr>
          <a:xfrm>
            <a:off x="622440" y="2752560"/>
            <a:ext cx="7945200" cy="676440"/>
          </a:xfrm>
          <a:prstGeom prst="pi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61200" bIns="6120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it-IT" sz="1600" spc="-1" strike="noStrike">
                <a:solidFill>
                  <a:srgbClr val="eeece1"/>
                </a:solidFill>
                <a:latin typeface="Candara"/>
              </a:rPr>
              <a:t>Attivazione in via sperimentale con applicazione graduale del sistema al fine di verificarne le criticità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it-IT" sz="1600" spc="-1" strike="noStrike">
                <a:solidFill>
                  <a:srgbClr val="eeece1"/>
                </a:solidFill>
                <a:latin typeface="Candara"/>
              </a:rPr>
              <a:t>A2A Termovalorizzatore di Brescia – HERA SpA  Comparto Impiantistico di Forl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igura a mano libera 7"/>
          <p:cNvSpPr/>
          <p:nvPr/>
        </p:nvSpPr>
        <p:spPr>
          <a:xfrm>
            <a:off x="642960" y="3462480"/>
            <a:ext cx="7945560" cy="610920"/>
          </a:xfrm>
          <a:prstGeom prst="pi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61200" bIns="6120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it-IT" sz="1600" spc="-1" strike="noStrike">
                <a:solidFill>
                  <a:srgbClr val="eeece1"/>
                </a:solidFill>
                <a:latin typeface="Candara"/>
              </a:rPr>
              <a:t>Devono essere previste funzioni di ricerca per l’identificazione da parte dei diversi soggetti coinvolti dalle movimentazioni SISTRI dei movimenti/schede di propria competenz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igura a mano libera 9"/>
          <p:cNvSpPr/>
          <p:nvPr/>
        </p:nvSpPr>
        <p:spPr>
          <a:xfrm>
            <a:off x="649440" y="4106880"/>
            <a:ext cx="7945200" cy="500040"/>
          </a:xfrm>
          <a:prstGeom prst="pi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61200" bIns="6120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it-IT" sz="1600" spc="-1" strike="noStrike">
                <a:solidFill>
                  <a:srgbClr val="eeece1"/>
                </a:solidFill>
                <a:latin typeface="Candara"/>
              </a:rPr>
              <a:t>Possibilità di salvare (criptati) gli identificativi delle Token Usb e dei relativi Pin nel gestionale per i soggetti aziendal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igura a mano libera 11"/>
          <p:cNvSpPr/>
          <p:nvPr/>
        </p:nvSpPr>
        <p:spPr>
          <a:xfrm>
            <a:off x="642960" y="4643280"/>
            <a:ext cx="7945560" cy="857520"/>
          </a:xfrm>
          <a:prstGeom prst="pi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61200" bIns="6120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it-IT" sz="1600" spc="-1" strike="noStrike">
                <a:solidFill>
                  <a:srgbClr val="eeece1"/>
                </a:solidFill>
                <a:latin typeface="Candara"/>
              </a:rPr>
              <a:t>Permettere all’impianto finale di garantire con la propria firma anche per il trasportatore/mezzo.  La veridicità dell’informazione potrebbe essere comunque garantita dalla localizzazione GPS del veico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egnaposto numero diapositiva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59FC-B388-4719-9D6C-322696B8DC1C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egnaposto numero diapositiva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B883-19A2-4074-A01F-F20D6EC1FA81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uppo 14"/>
          <p:cNvGrpSpPr/>
          <p:nvPr/>
        </p:nvGrpSpPr>
        <p:grpSpPr>
          <a:xfrm>
            <a:off x="285840" y="231840"/>
            <a:ext cx="8715240" cy="568440"/>
            <a:chOff x="285840" y="231840"/>
            <a:chExt cx="8715240" cy="568440"/>
          </a:xfrm>
        </p:grpSpPr>
        <p:sp>
          <p:nvSpPr>
            <p:cNvPr id="238" name="Rettangolo 15"/>
            <p:cNvSpPr/>
            <p:nvPr/>
          </p:nvSpPr>
          <p:spPr>
            <a:xfrm>
              <a:off x="285840" y="231840"/>
              <a:ext cx="871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000" spc="-1" strike="noStrike">
                  <a:solidFill>
                    <a:srgbClr val="17375e"/>
                  </a:solidFill>
                  <a:latin typeface="Calibri"/>
                </a:rPr>
                <a:t>Interoperabilità SISTRI / Sistemi Informativi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Connettore 1 16"/>
            <p:cNvSpPr/>
            <p:nvPr/>
          </p:nvSpPr>
          <p:spPr>
            <a:xfrm>
              <a:off x="357120" y="800280"/>
              <a:ext cx="8501040" cy="0"/>
            </a:xfrm>
            <a:prstGeom prst="line">
              <a:avLst/>
            </a:prstGeom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egnaposto numero diapositiva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B0ED-9016-4694-A785-BD78FE58FC8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uppo 4"/>
          <p:cNvGrpSpPr/>
          <p:nvPr/>
        </p:nvGrpSpPr>
        <p:grpSpPr>
          <a:xfrm>
            <a:off x="285840" y="1573200"/>
            <a:ext cx="8572320" cy="1784520"/>
            <a:chOff x="285840" y="1573200"/>
            <a:chExt cx="8572320" cy="1784520"/>
          </a:xfrm>
        </p:grpSpPr>
        <p:grpSp>
          <p:nvGrpSpPr>
            <p:cNvPr id="243" name="Figura a mano libera 5"/>
            <p:cNvGrpSpPr/>
            <p:nvPr/>
          </p:nvGrpSpPr>
          <p:grpSpPr>
            <a:xfrm>
              <a:off x="357840" y="1573200"/>
              <a:ext cx="1209600" cy="1053720"/>
              <a:chOff x="357840" y="1573200"/>
              <a:chExt cx="1209600" cy="1053720"/>
            </a:xfrm>
          </p:grpSpPr>
          <p:pic>
            <p:nvPicPr>
              <p:cNvPr id="244" name="Figura a mano libera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7840" y="1573200"/>
                <a:ext cx="1209600" cy="105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421200" y="1618920"/>
                <a:ext cx="1087920" cy="92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249840" bIns="2498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Candara"/>
                  </a:rPr>
                  <a:t>Produtto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Figura a mano libera 6"/>
            <p:cNvSpPr/>
            <p:nvPr/>
          </p:nvSpPr>
          <p:spPr>
            <a:xfrm>
              <a:off x="1630080" y="1741320"/>
              <a:ext cx="7228080" cy="47340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5320" rIns="68400" tIns="68400" bIns="6840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andara"/>
                <a:buAutoNum type="arabicPeriod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Crea il movimento nel gestionale (web service: Crea_Movimento_On-line) o conferma un movimento creato da un soggetto diverso (Trasportatore, Destinatario, Intermediario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Figura a mano libera 7"/>
            <p:cNvGrpSpPr/>
            <p:nvPr/>
          </p:nvGrpSpPr>
          <p:grpSpPr>
            <a:xfrm>
              <a:off x="285840" y="2366280"/>
              <a:ext cx="1324080" cy="991440"/>
              <a:chOff x="285840" y="2366280"/>
              <a:chExt cx="1324080" cy="991440"/>
            </a:xfrm>
          </p:grpSpPr>
          <p:pic>
            <p:nvPicPr>
              <p:cNvPr id="248" name="Figura a mano libera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2366280"/>
                <a:ext cx="1324080" cy="9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393120" y="2413800"/>
                <a:ext cx="1116360" cy="86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185040" bIns="1850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Candara"/>
                  </a:rPr>
                  <a:t>Trasportato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Figura a mano libera 8"/>
            <p:cNvSpPr/>
            <p:nvPr/>
          </p:nvSpPr>
          <p:spPr>
            <a:xfrm>
              <a:off x="1630080" y="2347560"/>
              <a:ext cx="7226640" cy="63576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5320" rIns="68400" tIns="68400" bIns="6840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andara"/>
                <a:buAutoNum type="arabicPeriod" startAt="2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Richiama (web service: Cerca_Movimento_On-line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andara"/>
                <a:buAutoNum type="arabicPeriod" startAt="2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Firma (web service: Modifica_Movimento_On-line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Figura a mano libera 11"/>
          <p:cNvGrpSpPr/>
          <p:nvPr/>
        </p:nvGrpSpPr>
        <p:grpSpPr>
          <a:xfrm>
            <a:off x="219240" y="3524400"/>
            <a:ext cx="1249200" cy="1060200"/>
            <a:chOff x="219240" y="3524400"/>
            <a:chExt cx="1249200" cy="1060200"/>
          </a:xfrm>
        </p:grpSpPr>
        <p:pic>
          <p:nvPicPr>
            <p:cNvPr id="252" name="Figura a mano libera 11" descr=""/>
            <p:cNvPicPr/>
            <p:nvPr/>
          </p:nvPicPr>
          <p:blipFill>
            <a:blip r:embed="rId3"/>
            <a:stretch/>
          </p:blipFill>
          <p:spPr>
            <a:xfrm>
              <a:off x="219240" y="3524400"/>
              <a:ext cx="124920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85840" y="3571920"/>
              <a:ext cx="112068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250560" bIns="2505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ndara"/>
                </a:rPr>
                <a:t>Conduc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Figura a mano libera 12"/>
          <p:cNvSpPr/>
          <p:nvPr/>
        </p:nvSpPr>
        <p:spPr>
          <a:xfrm>
            <a:off x="1538280" y="3214800"/>
            <a:ext cx="7318440" cy="150012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5320" rIns="68400" tIns="68400" bIns="68400" anchor="ctr">
            <a:noAutofit/>
          </a:bodyPr>
          <a:p>
            <a:pPr lvl="1" marL="228600" indent="-228600">
              <a:lnSpc>
                <a:spcPct val="90000"/>
              </a:lnSpc>
              <a:spcAft>
                <a:spcPts val="224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ndara"/>
                <a:ea typeface="Arial"/>
              </a:rPr>
              <a:t>4. se il produttore e iscritto al Sistri l’autista inserisce la chiavetta Mezzo associata al black box e  il produttore stampa la sched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224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ndara"/>
                <a:ea typeface="Arial"/>
              </a:rPr>
              <a:t>5. se il produttore e non è iscritto al Sist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ndara"/>
                <a:ea typeface="Arial"/>
              </a:rPr>
              <a:t>Il conducente deve recarsi a ritirare il rifiuto con una Scheda Movimentazione prodotta in se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ndara"/>
                <a:ea typeface="Arial"/>
              </a:rPr>
              <a:t>Va valutata la possibilità di inviare un segnale di presa in carico tramite la BlackBox che effettui il matching tra le coordinate della BlackBox e le coordinate del produtto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Figura a mano libera 13"/>
          <p:cNvGrpSpPr/>
          <p:nvPr/>
        </p:nvGrpSpPr>
        <p:grpSpPr>
          <a:xfrm>
            <a:off x="225360" y="4664160"/>
            <a:ext cx="1249560" cy="1066680"/>
            <a:chOff x="225360" y="4664160"/>
            <a:chExt cx="1249560" cy="1066680"/>
          </a:xfrm>
        </p:grpSpPr>
        <p:pic>
          <p:nvPicPr>
            <p:cNvPr id="256" name="Figura a mano libera 13" descr=""/>
            <p:cNvPicPr/>
            <p:nvPr/>
          </p:nvPicPr>
          <p:blipFill>
            <a:blip r:embed="rId4"/>
            <a:stretch/>
          </p:blipFill>
          <p:spPr>
            <a:xfrm>
              <a:off x="225360" y="4664160"/>
              <a:ext cx="12495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95200" y="4714920"/>
              <a:ext cx="112068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250560" bIns="2505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ndara"/>
                </a:rPr>
                <a:t>Impia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Figura a mano libera 14"/>
          <p:cNvSpPr/>
          <p:nvPr/>
        </p:nvSpPr>
        <p:spPr>
          <a:xfrm>
            <a:off x="1538280" y="4786200"/>
            <a:ext cx="7318440" cy="57168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5320" rIns="68400" tIns="68400" bIns="68400" anchor="ctr">
            <a:noAutofit/>
          </a:bodyPr>
          <a:p>
            <a:pPr lvl="1" marL="228600" indent="-22860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Candara"/>
              <a:buAutoNum type="arabicPeriod" startAt="6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ndara"/>
                <a:ea typeface="Arial"/>
              </a:rPr>
              <a:t>Richiama (web service: Cerca_Movimento_On-lin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Candara"/>
              <a:buAutoNum type="arabicPeriod" startAt="6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ndara"/>
                <a:ea typeface="Arial"/>
              </a:rPr>
              <a:t>Firma (web service: Modifica_Movimento_On-lin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224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le1"/>
          <p:cNvSpPr/>
          <p:nvPr/>
        </p:nvSpPr>
        <p:spPr>
          <a:xfrm>
            <a:off x="1643040" y="987480"/>
            <a:ext cx="5786640" cy="512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  <a:effectLst>
            <a:outerShdw dist="12727" dir="81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b">
            <a:noAutofit/>
          </a:bodyPr>
          <a:p>
            <a:pPr algn="ctr">
              <a:lnSpc>
                <a:spcPct val="100000"/>
              </a:lnSpc>
              <a:spcAft>
                <a:spcPts val="1225"/>
              </a:spcAft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Operatività con Gest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egnaposto numero diapositiva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D443-D77A-4386-B3C1-883ABBAFA8E3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egnaposto numero diapositiva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C83E-613C-470C-9937-1356F7B27671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uppo 18"/>
          <p:cNvGrpSpPr/>
          <p:nvPr/>
        </p:nvGrpSpPr>
        <p:grpSpPr>
          <a:xfrm>
            <a:off x="285840" y="231840"/>
            <a:ext cx="8715240" cy="568440"/>
            <a:chOff x="285840" y="231840"/>
            <a:chExt cx="8715240" cy="568440"/>
          </a:xfrm>
        </p:grpSpPr>
        <p:sp>
          <p:nvSpPr>
            <p:cNvPr id="263" name="Rettangolo 19"/>
            <p:cNvSpPr/>
            <p:nvPr/>
          </p:nvSpPr>
          <p:spPr>
            <a:xfrm>
              <a:off x="285840" y="231840"/>
              <a:ext cx="871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000" spc="-1" strike="noStrike">
                  <a:solidFill>
                    <a:srgbClr val="17375e"/>
                  </a:solidFill>
                  <a:latin typeface="Calibri"/>
                </a:rPr>
                <a:t>Interoperabilità SISTRI / Sistemi Informativi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Connettore 1 20"/>
            <p:cNvSpPr/>
            <p:nvPr/>
          </p:nvSpPr>
          <p:spPr>
            <a:xfrm>
              <a:off x="357120" y="800280"/>
              <a:ext cx="8501040" cy="0"/>
            </a:xfrm>
            <a:prstGeom prst="line">
              <a:avLst/>
            </a:prstGeom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ttangolo 25"/>
          <p:cNvSpPr/>
          <p:nvPr/>
        </p:nvSpPr>
        <p:spPr>
          <a:xfrm>
            <a:off x="1533600" y="1357200"/>
            <a:ext cx="693720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Azione: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rea  e firma un nuovo movimen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nput :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user , password , Usb_ Key,  Usb_Pin,  elementi tipici del movimen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Output :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estituisce l’ID SISTRI al Gestion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itle1"/>
          <p:cNvSpPr/>
          <p:nvPr/>
        </p:nvSpPr>
        <p:spPr>
          <a:xfrm>
            <a:off x="2571840" y="785880"/>
            <a:ext cx="4500360" cy="2858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  <a:effectLst>
            <a:outerShdw dist="12727" dir="81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b">
            <a:noAutofit/>
          </a:bodyPr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igura a mano libera 23"/>
          <p:cNvSpPr/>
          <p:nvPr/>
        </p:nvSpPr>
        <p:spPr>
          <a:xfrm>
            <a:off x="401760" y="1104840"/>
            <a:ext cx="7269120" cy="25236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6120" rIns="186120" tIns="11520" bIns="1152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Crea_Movimento_On-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ttangolo 9"/>
          <p:cNvSpPr/>
          <p:nvPr/>
        </p:nvSpPr>
        <p:spPr>
          <a:xfrm>
            <a:off x="1549440" y="2214720"/>
            <a:ext cx="6937200" cy="7142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Azione :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aggiorna e firma  un movimento già esistent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nput: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user, password, ID SISTRI,  Usb_ Key,  Usb_Pin,  elementi tipici del movimen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Output: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esito dell’oper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igura a mano libera 12"/>
          <p:cNvSpPr/>
          <p:nvPr/>
        </p:nvSpPr>
        <p:spPr>
          <a:xfrm>
            <a:off x="417600" y="2000160"/>
            <a:ext cx="7269120" cy="25236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6120" rIns="186120" tIns="11520" bIns="1152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Modifica_Movimento_On-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ttangolo 13"/>
          <p:cNvSpPr/>
          <p:nvPr/>
        </p:nvSpPr>
        <p:spPr>
          <a:xfrm>
            <a:off x="1549440" y="3068640"/>
            <a:ext cx="6937200" cy="828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Azione :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rea un nuovo movimento assegnandogli  l’ID creato dal Gestiona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nput: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user, password, ID Gestionale ,  Usb_ Key,  Usb_Pin, elementi tipici del movimen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Output: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estituisce l’ID SISTRI al Gestion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igura a mano libera 14"/>
          <p:cNvSpPr/>
          <p:nvPr/>
        </p:nvSpPr>
        <p:spPr>
          <a:xfrm>
            <a:off x="417600" y="2925720"/>
            <a:ext cx="7269120" cy="25236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6120" rIns="186120" tIns="11520" bIns="1152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Crea_Movimento_Generato _Off-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ttangolo 10"/>
          <p:cNvSpPr/>
          <p:nvPr/>
        </p:nvSpPr>
        <p:spPr>
          <a:xfrm>
            <a:off x="1557360" y="4152960"/>
            <a:ext cx="6937200" cy="628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Azione :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ancella un movimen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nput: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user, password, ID  SIST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Output: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esito dell’oper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igura a mano libera 11"/>
          <p:cNvSpPr/>
          <p:nvPr/>
        </p:nvSpPr>
        <p:spPr>
          <a:xfrm>
            <a:off x="425520" y="3879720"/>
            <a:ext cx="7269120" cy="25272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6120" rIns="186120" tIns="11520" bIns="1152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Cancella_Movimento_On-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ttangolo 15"/>
          <p:cNvSpPr/>
          <p:nvPr/>
        </p:nvSpPr>
        <p:spPr>
          <a:xfrm>
            <a:off x="1549440" y="5037120"/>
            <a:ext cx="6937200" cy="639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Azione :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icerca un movimen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nput: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user, password, parametri di ricerc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Output: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D SISTRI e dati colleg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igura a mano libera 16"/>
          <p:cNvSpPr/>
          <p:nvPr/>
        </p:nvSpPr>
        <p:spPr>
          <a:xfrm>
            <a:off x="417600" y="4786200"/>
            <a:ext cx="7269120" cy="25236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6120" rIns="186120" tIns="11520" bIns="1152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Ricerca_Movimento_SI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uppo 19"/>
          <p:cNvGrpSpPr/>
          <p:nvPr/>
        </p:nvGrpSpPr>
        <p:grpSpPr>
          <a:xfrm>
            <a:off x="285840" y="0"/>
            <a:ext cx="8715240" cy="728640"/>
            <a:chOff x="285840" y="0"/>
            <a:chExt cx="8715240" cy="728640"/>
          </a:xfrm>
        </p:grpSpPr>
        <p:sp>
          <p:nvSpPr>
            <p:cNvPr id="277" name="Rettangolo 20"/>
            <p:cNvSpPr/>
            <p:nvPr/>
          </p:nvSpPr>
          <p:spPr>
            <a:xfrm>
              <a:off x="285840" y="0"/>
              <a:ext cx="871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000" spc="-1" strike="noStrike">
                  <a:solidFill>
                    <a:srgbClr val="17375e"/>
                  </a:solidFill>
                  <a:latin typeface="Calibri"/>
                </a:rPr>
                <a:t>Interoperabilità SISTRI / Sistemi Informativi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Connettore 1 21"/>
            <p:cNvSpPr/>
            <p:nvPr/>
          </p:nvSpPr>
          <p:spPr>
            <a:xfrm>
              <a:off x="357120" y="728640"/>
              <a:ext cx="8501040" cy="0"/>
            </a:xfrm>
            <a:prstGeom prst="line">
              <a:avLst/>
            </a:prstGeom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mph" presetID="1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mph" presetID="1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mph" presetID="1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mph" presetID="1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25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mph" presetID="1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egnaposto numero diapositiva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61F4-81C2-4216-B0A1-1BA769727BCF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igura a mano libera 19"/>
          <p:cNvSpPr/>
          <p:nvPr/>
        </p:nvSpPr>
        <p:spPr>
          <a:xfrm>
            <a:off x="615960" y="2674800"/>
            <a:ext cx="7945560" cy="1040040"/>
          </a:xfrm>
          <a:prstGeom prst="pi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61200" bIns="6120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it-IT" sz="1600" spc="-1" strike="noStrike">
                <a:solidFill>
                  <a:srgbClr val="eeece1"/>
                </a:solidFill>
                <a:latin typeface="Candara"/>
              </a:rPr>
              <a:t>Un elevato numero di movimentazioni di rifiuto coinvolge a vario titolo le “utenze” che, per esigenze operative, utilizzano un proprio Gestionale spesso pesantemente integrato al businness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tle1"/>
          <p:cNvSpPr/>
          <p:nvPr/>
        </p:nvSpPr>
        <p:spPr>
          <a:xfrm>
            <a:off x="1076400" y="1558800"/>
            <a:ext cx="7056360" cy="51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  <a:effectLst>
            <a:outerShdw dist="12727" dir="81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b">
            <a:noAutofit/>
          </a:bodyPr>
          <a:p>
            <a:pPr algn="ctr">
              <a:lnSpc>
                <a:spcPct val="100000"/>
              </a:lnSpc>
              <a:spcAft>
                <a:spcPts val="1225"/>
              </a:spcAft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Prem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igura a mano libera 8"/>
          <p:cNvSpPr/>
          <p:nvPr/>
        </p:nvSpPr>
        <p:spPr>
          <a:xfrm>
            <a:off x="615960" y="4246560"/>
            <a:ext cx="7945560" cy="1039680"/>
          </a:xfrm>
          <a:prstGeom prst="pi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61200" bIns="6120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it-IT" sz="1600" spc="-1" strike="noStrike">
                <a:solidFill>
                  <a:srgbClr val="eeece1"/>
                </a:solidFill>
                <a:latin typeface="Candara"/>
              </a:rPr>
              <a:t>Attraverso il canale tra la piattaforma SISTRI ed i vari gestionali transiterebbero pertanto la quasi totalità delle movimentazioni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uppo 20"/>
          <p:cNvGrpSpPr/>
          <p:nvPr/>
        </p:nvGrpSpPr>
        <p:grpSpPr>
          <a:xfrm>
            <a:off x="285840" y="231840"/>
            <a:ext cx="8715240" cy="568440"/>
            <a:chOff x="285840" y="231840"/>
            <a:chExt cx="8715240" cy="568440"/>
          </a:xfrm>
        </p:grpSpPr>
        <p:sp>
          <p:nvSpPr>
            <p:cNvPr id="57" name="Rettangolo 14"/>
            <p:cNvSpPr/>
            <p:nvPr/>
          </p:nvSpPr>
          <p:spPr>
            <a:xfrm>
              <a:off x="285840" y="231840"/>
              <a:ext cx="871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000" spc="-1" strike="noStrike">
                  <a:solidFill>
                    <a:srgbClr val="17375e"/>
                  </a:solidFill>
                  <a:latin typeface="Calibri"/>
                </a:rPr>
                <a:t>Interoperabilità SISTRI / Sistemi Informativi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Connettore 1 18"/>
            <p:cNvSpPr/>
            <p:nvPr/>
          </p:nvSpPr>
          <p:spPr>
            <a:xfrm>
              <a:off x="357120" y="800280"/>
              <a:ext cx="8501040" cy="0"/>
            </a:xfrm>
            <a:prstGeom prst="line">
              <a:avLst/>
            </a:prstGeom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le1"/>
          <p:cNvSpPr/>
          <p:nvPr/>
        </p:nvSpPr>
        <p:spPr>
          <a:xfrm>
            <a:off x="1076400" y="1130400"/>
            <a:ext cx="7056360" cy="512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  <a:effectLst>
            <a:outerShdw dist="12727" dir="81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b">
            <a:noAutofit/>
          </a:bodyPr>
          <a:p>
            <a:pPr algn="ctr">
              <a:lnSpc>
                <a:spcPct val="100000"/>
              </a:lnSpc>
              <a:spcAft>
                <a:spcPts val="1225"/>
              </a:spcAft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Criticità strutturali del Sist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igura a mano libera 8"/>
          <p:cNvSpPr/>
          <p:nvPr/>
        </p:nvSpPr>
        <p:spPr>
          <a:xfrm>
            <a:off x="615960" y="1992240"/>
            <a:ext cx="7945560" cy="936720"/>
          </a:xfrm>
          <a:prstGeom prst="pi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61200" bIns="61200" anchor="ctr">
            <a:noAutofit/>
          </a:bodyPr>
          <a:p>
            <a:pPr lvl="1" marL="176040"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i="1" lang="it-IT" sz="1600" spc="-1" strike="noStrike">
                <a:solidFill>
                  <a:srgbClr val="eeece1"/>
                </a:solidFill>
                <a:latin typeface="Candara"/>
                <a:ea typeface="Arial"/>
              </a:rPr>
              <a:t>Il funzionamento impone che la connessione ad Internet sia presente, fruibile e con tempi di risposta adeguati all’operatività dei servi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igura a mano libera 5"/>
          <p:cNvSpPr/>
          <p:nvPr/>
        </p:nvSpPr>
        <p:spPr>
          <a:xfrm>
            <a:off x="615960" y="3214800"/>
            <a:ext cx="7945560" cy="936360"/>
          </a:xfrm>
          <a:prstGeom prst="pi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61200" bIns="61200" anchor="ctr">
            <a:noAutofit/>
          </a:bodyPr>
          <a:p>
            <a:pPr lvl="1" marL="176040"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i="1" lang="it-IT" sz="1600" spc="-1" strike="noStrike">
                <a:solidFill>
                  <a:srgbClr val="eeece1"/>
                </a:solidFill>
                <a:latin typeface="Candara"/>
                <a:ea typeface="Arial"/>
              </a:rPr>
              <a:t>Il funzionamento impone ai diversi soggetti di dotarsi di apparati HW (Pc, Sim, modem, router, stampanti, …), oltre a quelli forniti dal SISTRI (BlackBox, token U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igura a mano libera 6"/>
          <p:cNvSpPr/>
          <p:nvPr/>
        </p:nvSpPr>
        <p:spPr>
          <a:xfrm>
            <a:off x="571680" y="4429080"/>
            <a:ext cx="7945200" cy="936720"/>
          </a:xfrm>
          <a:prstGeom prst="pi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61200" bIns="61200" anchor="ctr">
            <a:noAutofit/>
          </a:bodyPr>
          <a:p>
            <a:pPr lvl="1" marL="176040" indent="-6120"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i="1" lang="it-IT" sz="1600" spc="-1" strike="noStrike">
                <a:solidFill>
                  <a:srgbClr val="eeece1"/>
                </a:solidFill>
                <a:latin typeface="Candara"/>
                <a:ea typeface="Arial"/>
              </a:rPr>
              <a:t>L’elevato numero di dispositivi di campo  disposti in serie impone che  per evitare blocchi alla tracciabilità del movimento vengano previste operazioni  di by-pass (art. 6 comma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uppo 16"/>
          <p:cNvGrpSpPr/>
          <p:nvPr/>
        </p:nvGrpSpPr>
        <p:grpSpPr>
          <a:xfrm>
            <a:off x="285840" y="231840"/>
            <a:ext cx="8715240" cy="568440"/>
            <a:chOff x="285840" y="231840"/>
            <a:chExt cx="8715240" cy="568440"/>
          </a:xfrm>
        </p:grpSpPr>
        <p:sp>
          <p:nvSpPr>
            <p:cNvPr id="64" name="Rettangolo 17"/>
            <p:cNvSpPr/>
            <p:nvPr/>
          </p:nvSpPr>
          <p:spPr>
            <a:xfrm>
              <a:off x="285840" y="231840"/>
              <a:ext cx="871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000" spc="-1" strike="noStrike">
                  <a:solidFill>
                    <a:srgbClr val="17375e"/>
                  </a:solidFill>
                  <a:latin typeface="Calibri"/>
                </a:rPr>
                <a:t>Interoperabilità SISTRI / Sistemi Informativi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Connettore 1 18"/>
            <p:cNvSpPr/>
            <p:nvPr/>
          </p:nvSpPr>
          <p:spPr>
            <a:xfrm>
              <a:off x="357120" y="800280"/>
              <a:ext cx="8501040" cy="0"/>
            </a:xfrm>
            <a:prstGeom prst="line">
              <a:avLst/>
            </a:prstGeom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B829-077D-41CC-B827-006E226D0655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igura a mano libera 19"/>
          <p:cNvSpPr/>
          <p:nvPr/>
        </p:nvSpPr>
        <p:spPr>
          <a:xfrm>
            <a:off x="615960" y="2011320"/>
            <a:ext cx="7945560" cy="1060560"/>
          </a:xfrm>
          <a:prstGeom prst="pi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61200" bIns="6120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it-IT" sz="1600" spc="-1" strike="noStrike">
                <a:solidFill>
                  <a:srgbClr val="eeece1"/>
                </a:solidFill>
                <a:latin typeface="Candara"/>
              </a:rPr>
              <a:t>Individuazione dell’ID Sistri per effettuare l’aggancio al movimento SISTRI da modific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1"/>
          <p:cNvSpPr/>
          <p:nvPr/>
        </p:nvSpPr>
        <p:spPr>
          <a:xfrm>
            <a:off x="1076400" y="1143000"/>
            <a:ext cx="7056360" cy="512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  <a:effectLst>
            <a:outerShdw dist="12727" dir="81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b">
            <a:noAutofit/>
          </a:bodyPr>
          <a:p>
            <a:pPr algn="ctr">
              <a:lnSpc>
                <a:spcPct val="100000"/>
              </a:lnSpc>
              <a:spcAft>
                <a:spcPts val="1225"/>
              </a:spcAft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Criticità del Gest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igura a mano libera 8"/>
          <p:cNvSpPr/>
          <p:nvPr/>
        </p:nvSpPr>
        <p:spPr>
          <a:xfrm>
            <a:off x="615960" y="3286080"/>
            <a:ext cx="7945560" cy="936720"/>
          </a:xfrm>
          <a:prstGeom prst="pi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61200" bIns="6120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it-IT" sz="1600" spc="-1" strike="noStrike">
                <a:solidFill>
                  <a:srgbClr val="eeece1"/>
                </a:solidFill>
                <a:latin typeface="Candara"/>
              </a:rPr>
              <a:t>Allineamento delle anagrafiche alle codifiche SISTRI che dovrebbe avvenire solo mediante lo scarico del codice dal SIST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igura a mano libera 6"/>
          <p:cNvSpPr/>
          <p:nvPr/>
        </p:nvSpPr>
        <p:spPr>
          <a:xfrm>
            <a:off x="622440" y="4500720"/>
            <a:ext cx="7945200" cy="936360"/>
          </a:xfrm>
          <a:prstGeom prst="pi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61200" bIns="6120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it-IT" sz="1600" spc="-1" strike="noStrike">
                <a:solidFill>
                  <a:srgbClr val="eeece1"/>
                </a:solidFill>
                <a:latin typeface="Candara"/>
              </a:rPr>
              <a:t>L’esclusione delle movimentazioni degli urbani comporta più disagi che benefici. Va prevista la possibilità di registrare (senza tracciare il percorso) anche i rifiuti urban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egnaposto numero diapositiva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3841-9392-4F91-B529-02FFDFCD48CD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egnaposto numero diapositiva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375D-E817-4733-9F09-1A012D4E16A6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uppo 17"/>
          <p:cNvGrpSpPr/>
          <p:nvPr/>
        </p:nvGrpSpPr>
        <p:grpSpPr>
          <a:xfrm>
            <a:off x="285840" y="231840"/>
            <a:ext cx="8715240" cy="568440"/>
            <a:chOff x="285840" y="231840"/>
            <a:chExt cx="8715240" cy="568440"/>
          </a:xfrm>
        </p:grpSpPr>
        <p:sp>
          <p:nvSpPr>
            <p:cNvPr id="74" name="Rettangolo 18"/>
            <p:cNvSpPr/>
            <p:nvPr/>
          </p:nvSpPr>
          <p:spPr>
            <a:xfrm>
              <a:off x="285840" y="231840"/>
              <a:ext cx="871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000" spc="-1" strike="noStrike">
                  <a:solidFill>
                    <a:srgbClr val="17375e"/>
                  </a:solidFill>
                  <a:latin typeface="Calibri"/>
                </a:rPr>
                <a:t>Interoperabilità SISTRI / Sistemi Informativi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Connettore 1 20"/>
            <p:cNvSpPr/>
            <p:nvPr/>
          </p:nvSpPr>
          <p:spPr>
            <a:xfrm>
              <a:off x="357120" y="800280"/>
              <a:ext cx="8501040" cy="0"/>
            </a:xfrm>
            <a:prstGeom prst="line">
              <a:avLst/>
            </a:prstGeom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egnaposto numero diapositiva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31E0-A139-4058-833A-EA23F4FF6F15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igura a mano libera 19"/>
          <p:cNvSpPr/>
          <p:nvPr/>
        </p:nvSpPr>
        <p:spPr>
          <a:xfrm>
            <a:off x="615960" y="1500120"/>
            <a:ext cx="7945560" cy="541440"/>
          </a:xfrm>
          <a:prstGeom prst="pi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61200" bIns="6120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it-IT" sz="1600" spc="-1" strike="noStrike">
                <a:solidFill>
                  <a:srgbClr val="eeece1"/>
                </a:solidFill>
                <a:latin typeface="Candara"/>
              </a:rPr>
              <a:t>L’interconnessione tra la piattaforma SISTRI e i gestionali andrà attivata mediante web services su architettura S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igura a mano libera 20"/>
          <p:cNvSpPr/>
          <p:nvPr/>
        </p:nvSpPr>
        <p:spPr>
          <a:xfrm>
            <a:off x="615960" y="2071800"/>
            <a:ext cx="7945560" cy="542880"/>
          </a:xfrm>
          <a:prstGeom prst="pi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61200" bIns="61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eeece1"/>
                </a:solidFill>
                <a:latin typeface="Candara"/>
              </a:rPr>
              <a:t>Deve essere garantita l’integrità e la disponibilità dei servizi in un ambiente di produzione reale e, all’occorrenza, la possibilità di operare in modalità off-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igura a mano libera 21"/>
          <p:cNvSpPr/>
          <p:nvPr/>
        </p:nvSpPr>
        <p:spPr>
          <a:xfrm>
            <a:off x="615960" y="2657520"/>
            <a:ext cx="7945560" cy="542880"/>
          </a:xfrm>
          <a:prstGeom prst="pi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61200" bIns="6120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it-IT" sz="1600" spc="-1" strike="noStrike">
                <a:solidFill>
                  <a:srgbClr val="eeece1"/>
                </a:solidFill>
                <a:latin typeface="Candara"/>
              </a:rPr>
              <a:t>Ogni movimento SISTRI è identificato da una chiave univo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le1"/>
          <p:cNvSpPr/>
          <p:nvPr/>
        </p:nvSpPr>
        <p:spPr>
          <a:xfrm>
            <a:off x="1076400" y="887400"/>
            <a:ext cx="7056360" cy="512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  <a:effectLst>
            <a:outerShdw dist="12727" dir="81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b">
            <a:noAutofit/>
          </a:bodyPr>
          <a:p>
            <a:pPr algn="ctr">
              <a:lnSpc>
                <a:spcPct val="100000"/>
              </a:lnSpc>
              <a:spcAft>
                <a:spcPts val="1225"/>
              </a:spcAft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Vinc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igura a mano libera 9"/>
          <p:cNvSpPr/>
          <p:nvPr/>
        </p:nvSpPr>
        <p:spPr>
          <a:xfrm>
            <a:off x="615960" y="3854520"/>
            <a:ext cx="7945560" cy="541440"/>
          </a:xfrm>
          <a:prstGeom prst="pi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61200" bIns="6120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it-IT" sz="1600" spc="-1" strike="noStrike">
                <a:solidFill>
                  <a:srgbClr val="eeece1"/>
                </a:solidFill>
                <a:latin typeface="Candara"/>
              </a:rPr>
              <a:t>Esiste un livello gerarchico sulla possibilità di modifica di un movimento inserito in SISTR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it-IT" sz="1600" spc="-1" strike="noStrike">
                <a:solidFill>
                  <a:srgbClr val="eeece1"/>
                </a:solidFill>
                <a:latin typeface="Candara"/>
              </a:rPr>
              <a:t>Produttore, Intermediario, Trasportatore  e Impia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igura a mano libera 7"/>
          <p:cNvSpPr/>
          <p:nvPr/>
        </p:nvSpPr>
        <p:spPr>
          <a:xfrm>
            <a:off x="615960" y="3257640"/>
            <a:ext cx="7945560" cy="542880"/>
          </a:xfrm>
          <a:prstGeom prst="pi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61200" bIns="6120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it-IT" sz="1600" spc="-1" strike="noStrike">
                <a:solidFill>
                  <a:srgbClr val="eeece1"/>
                </a:solidFill>
                <a:latin typeface="Candara"/>
              </a:rPr>
              <a:t>Il movimento è unico per tutti i soggetti coinvol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igura a mano libera 8"/>
          <p:cNvSpPr/>
          <p:nvPr/>
        </p:nvSpPr>
        <p:spPr>
          <a:xfrm>
            <a:off x="615960" y="4451400"/>
            <a:ext cx="7945560" cy="541440"/>
          </a:xfrm>
          <a:prstGeom prst="pi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61200" bIns="6120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it-IT" sz="1600" spc="-1" strike="noStrike">
                <a:solidFill>
                  <a:srgbClr val="eeece1"/>
                </a:solidFill>
                <a:latin typeface="Candara"/>
              </a:rPr>
              <a:t>L’user  identifica l’utente e ne individua il tipo (produttore, intermediario, trasportatore, impia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igura a mano libera 11"/>
          <p:cNvSpPr/>
          <p:nvPr/>
        </p:nvSpPr>
        <p:spPr>
          <a:xfrm>
            <a:off x="622440" y="5052960"/>
            <a:ext cx="7945200" cy="541440"/>
          </a:xfrm>
          <a:prstGeom prst="pi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200" rIns="61200" tIns="61200" bIns="6120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it-IT" sz="1600" spc="-1" strike="noStrike">
                <a:solidFill>
                  <a:srgbClr val="eeece1"/>
                </a:solidFill>
                <a:latin typeface="Candara"/>
              </a:rPr>
              <a:t>L’accessibilità ai movimenti e vincolata alla partecipazione agli stessi. La ricerca dovrà prevedere come parametri essenziali user/peri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egnaposto numero diapositiva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22ED-5E7B-452D-BC6C-EE9C70A641A1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egnaposto numero diapositiva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CDDF-3F66-4337-8F3E-3E651CB669E9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uppo 15"/>
          <p:cNvGrpSpPr/>
          <p:nvPr/>
        </p:nvGrpSpPr>
        <p:grpSpPr>
          <a:xfrm>
            <a:off x="285840" y="146160"/>
            <a:ext cx="8715240" cy="568080"/>
            <a:chOff x="285840" y="146160"/>
            <a:chExt cx="8715240" cy="568080"/>
          </a:xfrm>
        </p:grpSpPr>
        <p:sp>
          <p:nvSpPr>
            <p:cNvPr id="88" name="Rettangolo 16"/>
            <p:cNvSpPr/>
            <p:nvPr/>
          </p:nvSpPr>
          <p:spPr>
            <a:xfrm>
              <a:off x="285840" y="146160"/>
              <a:ext cx="871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000" spc="-1" strike="noStrike">
                  <a:solidFill>
                    <a:srgbClr val="17375e"/>
                  </a:solidFill>
                  <a:latin typeface="Calibri"/>
                </a:rPr>
                <a:t>Interoperabilità SISTRI / Sistemi Informativi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Connettore 1 17"/>
            <p:cNvSpPr/>
            <p:nvPr/>
          </p:nvSpPr>
          <p:spPr>
            <a:xfrm>
              <a:off x="357120" y="714240"/>
              <a:ext cx="8501040" cy="0"/>
            </a:xfrm>
            <a:prstGeom prst="line">
              <a:avLst/>
            </a:prstGeom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24"/>
          <p:cNvSpPr/>
          <p:nvPr/>
        </p:nvSpPr>
        <p:spPr>
          <a:xfrm>
            <a:off x="1500120" y="2871720"/>
            <a:ext cx="6939000" cy="649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al SISTRI nella modalità on-lin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al Gestionale nella modalità off-lin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egnaposto numero diapositiva 2"/>
          <p:cNvSpPr/>
          <p:nvPr/>
        </p:nvSpPr>
        <p:spPr>
          <a:xfrm>
            <a:off x="457200" y="62136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1AB4-0709-4510-91CF-BE5D186E4E34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itle1"/>
          <p:cNvSpPr/>
          <p:nvPr/>
        </p:nvSpPr>
        <p:spPr>
          <a:xfrm>
            <a:off x="1857240" y="642960"/>
            <a:ext cx="5357880" cy="512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  <a:effectLst>
            <a:outerShdw dist="12727" dir="81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b">
            <a:noAutofit/>
          </a:bodyPr>
          <a:p>
            <a:pPr algn="ctr">
              <a:lnSpc>
                <a:spcPct val="100000"/>
              </a:lnSpc>
              <a:spcAft>
                <a:spcPts val="1225"/>
              </a:spcAft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La soluzione esecu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ttangolo 10"/>
          <p:cNvSpPr/>
          <p:nvPr/>
        </p:nvSpPr>
        <p:spPr>
          <a:xfrm>
            <a:off x="1523880" y="1612800"/>
            <a:ext cx="6939000" cy="9288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al Produttore quando è iscritto al SIST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al Trasportatore quando il produttore non è iscritto al SIST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all’Impianto quando il movimento non è soggetto a tracciabilità o per le movimentazioni inter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all’intermediario che “dispone il recupero o lo smaltimento dei rifiuti per conto di altri” (Dir. 2008/98/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igura a mano libera 11"/>
          <p:cNvSpPr/>
          <p:nvPr/>
        </p:nvSpPr>
        <p:spPr>
          <a:xfrm>
            <a:off x="382680" y="1214280"/>
            <a:ext cx="7223040" cy="42876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6120" rIns="186120" tIns="11520" bIns="11520" anchor="ctr">
            <a:noAutofit/>
          </a:bodyPr>
          <a:p>
            <a:pPr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 movimenti possono essere creati in SISTRI dai diversi sogget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igura a mano libera 18"/>
          <p:cNvSpPr/>
          <p:nvPr/>
        </p:nvSpPr>
        <p:spPr>
          <a:xfrm>
            <a:off x="382680" y="2585880"/>
            <a:ext cx="7283520" cy="3906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6120" rIns="186120" tIns="11520" bIns="1152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’ID della scheda SISTRI è l’attestato dell’inserimento del movimento e può essere gene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ttangolo 12"/>
          <p:cNvSpPr/>
          <p:nvPr/>
        </p:nvSpPr>
        <p:spPr>
          <a:xfrm>
            <a:off x="1503360" y="3994200"/>
            <a:ext cx="6939000" cy="6490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l’ID deve essere univoco (algoritmo su data, scheda di rete, ecc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l’ID generato dal Gestionale potrebbe essere provvisorio e sostituito da l’ID SISTRI al ripristino della modalità on-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igura a mano libera 14"/>
          <p:cNvSpPr/>
          <p:nvPr/>
        </p:nvSpPr>
        <p:spPr>
          <a:xfrm>
            <a:off x="352440" y="3571920"/>
            <a:ext cx="7283520" cy="3906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6120" rIns="186120" tIns="11520" bIns="1152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Generazione dell’ID in modalità off-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15"/>
          <p:cNvSpPr/>
          <p:nvPr/>
        </p:nvSpPr>
        <p:spPr>
          <a:xfrm>
            <a:off x="1503360" y="4898880"/>
            <a:ext cx="6939000" cy="649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Per ognuno dei soggetti (Produttore, Trasportatore, Impianto, Intermediario, Mezzo)  è necessario  esista  nel  gestionale l’associazione al codice SIST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igura a mano libera 16"/>
          <p:cNvSpPr/>
          <p:nvPr/>
        </p:nvSpPr>
        <p:spPr>
          <a:xfrm>
            <a:off x="352440" y="4684680"/>
            <a:ext cx="7283520" cy="3906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6120" rIns="186120" tIns="11520" bIns="1152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nformazioni aggiuntive al Gest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egnaposto numero diapositiva 2"/>
          <p:cNvSpPr/>
          <p:nvPr/>
        </p:nvSpPr>
        <p:spPr>
          <a:xfrm>
            <a:off x="457200" y="62136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CBC4-E41F-443A-8A80-B3E7CD301551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egnaposto numero diapositiva 2"/>
          <p:cNvSpPr/>
          <p:nvPr/>
        </p:nvSpPr>
        <p:spPr>
          <a:xfrm>
            <a:off x="457200" y="62136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8757-E521-4D2B-A684-77C01843B64D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po 19"/>
          <p:cNvGrpSpPr/>
          <p:nvPr/>
        </p:nvGrpSpPr>
        <p:grpSpPr>
          <a:xfrm>
            <a:off x="285840" y="0"/>
            <a:ext cx="8715240" cy="568440"/>
            <a:chOff x="285840" y="0"/>
            <a:chExt cx="8715240" cy="568440"/>
          </a:xfrm>
        </p:grpSpPr>
        <p:sp>
          <p:nvSpPr>
            <p:cNvPr id="103" name="Rettangolo 20"/>
            <p:cNvSpPr/>
            <p:nvPr/>
          </p:nvSpPr>
          <p:spPr>
            <a:xfrm>
              <a:off x="285840" y="0"/>
              <a:ext cx="871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000" spc="-1" strike="noStrike">
                  <a:solidFill>
                    <a:srgbClr val="17375e"/>
                  </a:solidFill>
                  <a:latin typeface="Calibri"/>
                </a:rPr>
                <a:t>Interoperabilità SISTRI / Sistemi Informativi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Connettore 1 21"/>
            <p:cNvSpPr/>
            <p:nvPr/>
          </p:nvSpPr>
          <p:spPr>
            <a:xfrm>
              <a:off x="357120" y="568440"/>
              <a:ext cx="8501040" cy="0"/>
            </a:xfrm>
            <a:prstGeom prst="line">
              <a:avLst/>
            </a:prstGeom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egnaposto numero diapositiva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1369-25A4-4823-B005-A766421A9172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le1"/>
          <p:cNvSpPr/>
          <p:nvPr/>
        </p:nvSpPr>
        <p:spPr>
          <a:xfrm>
            <a:off x="2357280" y="785880"/>
            <a:ext cx="4929480" cy="512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  <a:effectLst>
            <a:outerShdw dist="12727" dir="81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b">
            <a:noAutofit/>
          </a:bodyPr>
          <a:p>
            <a:pPr algn="ctr">
              <a:lnSpc>
                <a:spcPct val="100000"/>
              </a:lnSpc>
              <a:spcAft>
                <a:spcPts val="1225"/>
              </a:spcAft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Figura a mano libera 15"/>
          <p:cNvGrpSpPr/>
          <p:nvPr/>
        </p:nvGrpSpPr>
        <p:grpSpPr>
          <a:xfrm>
            <a:off x="4280040" y="3333600"/>
            <a:ext cx="2406600" cy="2549520"/>
            <a:chOff x="4280040" y="3333600"/>
            <a:chExt cx="2406600" cy="2549520"/>
          </a:xfrm>
        </p:grpSpPr>
        <p:pic>
          <p:nvPicPr>
            <p:cNvPr id="108" name="Figura a mano libera 15" descr=""/>
            <p:cNvPicPr/>
            <p:nvPr/>
          </p:nvPicPr>
          <p:blipFill>
            <a:blip r:embed="rId1"/>
            <a:stretch/>
          </p:blipFill>
          <p:spPr>
            <a:xfrm>
              <a:off x="4280040" y="3333600"/>
              <a:ext cx="2406600" cy="25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327560" y="3357720"/>
              <a:ext cx="231624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7080" rIns="667080" tIns="763560" bIns="814320" anchor="ctr">
              <a:noAutofit/>
            </a:bodyPr>
            <a:p>
              <a:pPr algn="ctr"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Figura a mano libera 16"/>
          <p:cNvGrpSpPr/>
          <p:nvPr/>
        </p:nvGrpSpPr>
        <p:grpSpPr>
          <a:xfrm>
            <a:off x="2803680" y="2914560"/>
            <a:ext cx="1798560" cy="1876680"/>
            <a:chOff x="2803680" y="2914560"/>
            <a:chExt cx="1798560" cy="1876680"/>
          </a:xfrm>
        </p:grpSpPr>
        <p:pic>
          <p:nvPicPr>
            <p:cNvPr id="111" name="Figura a mano libera 16" descr=""/>
            <p:cNvPicPr/>
            <p:nvPr/>
          </p:nvPicPr>
          <p:blipFill>
            <a:blip r:embed="rId2"/>
            <a:stretch/>
          </p:blipFill>
          <p:spPr>
            <a:xfrm>
              <a:off x="2838600" y="2914560"/>
              <a:ext cx="1723680" cy="187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803680" y="2928960"/>
              <a:ext cx="179856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0160" rIns="560160" tIns="563400" bIns="56340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Figura a mano libera 17"/>
          <p:cNvGrpSpPr/>
          <p:nvPr/>
        </p:nvGrpSpPr>
        <p:grpSpPr>
          <a:xfrm>
            <a:off x="3833640" y="1474920"/>
            <a:ext cx="1976760" cy="2122200"/>
            <a:chOff x="3833640" y="1474920"/>
            <a:chExt cx="1976760" cy="2122200"/>
          </a:xfrm>
        </p:grpSpPr>
        <p:pic>
          <p:nvPicPr>
            <p:cNvPr id="114" name="Figura a mano libera 17" descr=""/>
            <p:cNvPicPr/>
            <p:nvPr/>
          </p:nvPicPr>
          <p:blipFill>
            <a:blip r:embed="rId3"/>
            <a:stretch/>
          </p:blipFill>
          <p:spPr>
            <a:xfrm>
              <a:off x="3984840" y="1663560"/>
              <a:ext cx="1668600" cy="177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833640" y="1474920"/>
              <a:ext cx="1976760" cy="21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7400" rIns="707400" tIns="707400" bIns="70740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Freccia ad arco 18"/>
          <p:cNvGrpSpPr/>
          <p:nvPr/>
        </p:nvGrpSpPr>
        <p:grpSpPr>
          <a:xfrm>
            <a:off x="6267600" y="3071880"/>
            <a:ext cx="938160" cy="2805120"/>
            <a:chOff x="6267600" y="3071880"/>
            <a:chExt cx="938160" cy="2805120"/>
          </a:xfrm>
        </p:grpSpPr>
        <p:pic>
          <p:nvPicPr>
            <p:cNvPr id="117" name="Freccia ad arco 18" descr=""/>
            <p:cNvPicPr/>
            <p:nvPr/>
          </p:nvPicPr>
          <p:blipFill>
            <a:blip r:embed="rId4"/>
            <a:stretch/>
          </p:blipFill>
          <p:spPr>
            <a:xfrm>
              <a:off x="6885360" y="3071880"/>
              <a:ext cx="32040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267600" y="3359160"/>
              <a:ext cx="762480" cy="24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Forma 19"/>
          <p:cNvGrpSpPr/>
          <p:nvPr/>
        </p:nvGrpSpPr>
        <p:grpSpPr>
          <a:xfrm>
            <a:off x="2309760" y="2682720"/>
            <a:ext cx="939960" cy="1474560"/>
            <a:chOff x="2309760" y="2682720"/>
            <a:chExt cx="939960" cy="1474560"/>
          </a:xfrm>
        </p:grpSpPr>
        <p:pic>
          <p:nvPicPr>
            <p:cNvPr id="120" name="Forma 19" descr=""/>
            <p:cNvPicPr/>
            <p:nvPr/>
          </p:nvPicPr>
          <p:blipFill>
            <a:blip r:embed="rId5"/>
            <a:stretch/>
          </p:blipFill>
          <p:spPr>
            <a:xfrm>
              <a:off x="2309760" y="2682720"/>
              <a:ext cx="420120" cy="106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528280" y="2890440"/>
              <a:ext cx="72144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Freccia ad arco 20"/>
          <p:cNvGrpSpPr/>
          <p:nvPr/>
        </p:nvGrpSpPr>
        <p:grpSpPr>
          <a:xfrm>
            <a:off x="3419640" y="1341360"/>
            <a:ext cx="658440" cy="1285560"/>
            <a:chOff x="3419640" y="1341360"/>
            <a:chExt cx="658440" cy="1285560"/>
          </a:xfrm>
        </p:grpSpPr>
        <p:pic>
          <p:nvPicPr>
            <p:cNvPr id="123" name="Freccia ad arco 20" descr=""/>
            <p:cNvPicPr/>
            <p:nvPr/>
          </p:nvPicPr>
          <p:blipFill>
            <a:blip r:embed="rId6"/>
            <a:stretch/>
          </p:blipFill>
          <p:spPr>
            <a:xfrm>
              <a:off x="3419640" y="1341360"/>
              <a:ext cx="201960" cy="83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547800" y="1405800"/>
              <a:ext cx="5302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uppo 28"/>
          <p:cNvGrpSpPr/>
          <p:nvPr/>
        </p:nvGrpSpPr>
        <p:grpSpPr>
          <a:xfrm>
            <a:off x="4572000" y="2286000"/>
            <a:ext cx="3165480" cy="471600"/>
            <a:chOff x="4572000" y="2286000"/>
            <a:chExt cx="3165480" cy="471600"/>
          </a:xfrm>
        </p:grpSpPr>
        <p:sp>
          <p:nvSpPr>
            <p:cNvPr id="126" name="Figura a mano libera 29"/>
            <p:cNvSpPr/>
            <p:nvPr/>
          </p:nvSpPr>
          <p:spPr>
            <a:xfrm>
              <a:off x="4824360" y="2286000"/>
              <a:ext cx="2913120" cy="4716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55240" rIns="7812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r>
                <a:rPr b="0" i="1" lang="it-IT" sz="1200" spc="-1" strike="noStrike">
                  <a:solidFill>
                    <a:srgbClr val="f2f2f2"/>
                  </a:solidFill>
                  <a:latin typeface="Calibri"/>
                </a:rPr>
                <a:t>funzionamento off – li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r>
                <a:rPr b="0" i="1" lang="it-IT" sz="1200" spc="-1" strike="noStrike">
                  <a:solidFill>
                    <a:srgbClr val="f2f2f2"/>
                  </a:solidFill>
                  <a:latin typeface="Calibri"/>
                </a:rPr>
                <a:t>(attiva i processi logic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e 30"/>
            <p:cNvSpPr/>
            <p:nvPr/>
          </p:nvSpPr>
          <p:spPr>
            <a:xfrm>
              <a:off x="4572000" y="2286000"/>
              <a:ext cx="503280" cy="471600"/>
            </a:xfrm>
            <a:prstGeom prst="ellipse">
              <a:avLst/>
            </a:prstGeom>
            <a:solidFill>
              <a:srgbClr val="c2cde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31"/>
          <p:cNvSpPr/>
          <p:nvPr/>
        </p:nvSpPr>
        <p:spPr>
          <a:xfrm>
            <a:off x="4714920" y="2287080"/>
            <a:ext cx="2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ndar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uppo 36"/>
          <p:cNvGrpSpPr/>
          <p:nvPr/>
        </p:nvGrpSpPr>
        <p:grpSpPr>
          <a:xfrm>
            <a:off x="5286240" y="4357800"/>
            <a:ext cx="3409920" cy="471240"/>
            <a:chOff x="5286240" y="4357800"/>
            <a:chExt cx="3409920" cy="471240"/>
          </a:xfrm>
        </p:grpSpPr>
        <p:sp>
          <p:nvSpPr>
            <p:cNvPr id="130" name="Figura a mano libera 37"/>
            <p:cNvSpPr/>
            <p:nvPr/>
          </p:nvSpPr>
          <p:spPr>
            <a:xfrm>
              <a:off x="5557680" y="4357800"/>
              <a:ext cx="3138480" cy="4712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55240" rIns="7812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r>
                <a:rPr b="0" i="1" lang="it-IT" sz="1200" spc="-1" strike="noStrike">
                  <a:solidFill>
                    <a:srgbClr val="f2f2f2"/>
                  </a:solidFill>
                  <a:latin typeface="Calibri"/>
                </a:rPr>
                <a:t> </a:t>
              </a:r>
              <a:r>
                <a:rPr b="0" i="1" lang="it-IT" sz="1200" spc="-1" strike="noStrike">
                  <a:solidFill>
                    <a:srgbClr val="f2f2f2"/>
                  </a:solidFill>
                  <a:latin typeface="Calibri"/>
                </a:rPr>
                <a:t>token Usb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r>
                <a:rPr b="0" i="1" lang="it-IT" sz="1200" spc="-1" strike="noStrike">
                  <a:solidFill>
                    <a:srgbClr val="f2f2f2"/>
                  </a:solidFill>
                  <a:latin typeface="Calibri"/>
                </a:rPr>
                <a:t>(attiva i processi di autenticazion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e 38"/>
            <p:cNvSpPr/>
            <p:nvPr/>
          </p:nvSpPr>
          <p:spPr>
            <a:xfrm>
              <a:off x="5286240" y="4357800"/>
              <a:ext cx="542880" cy="471240"/>
            </a:xfrm>
            <a:prstGeom prst="ellipse">
              <a:avLst/>
            </a:prstGeom>
            <a:solidFill>
              <a:srgbClr val="c2cde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CasellaDiTesto 39"/>
          <p:cNvSpPr/>
          <p:nvPr/>
        </p:nvSpPr>
        <p:spPr>
          <a:xfrm>
            <a:off x="5429160" y="4287240"/>
            <a:ext cx="2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ndar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igura a mano libera 41"/>
          <p:cNvSpPr/>
          <p:nvPr/>
        </p:nvSpPr>
        <p:spPr>
          <a:xfrm flipH="1">
            <a:off x="785160" y="3643200"/>
            <a:ext cx="2749320" cy="425520"/>
          </a:xfrm>
          <a:prstGeom prst="pi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5240" rIns="78120" tIns="41760" bIns="41760" anchor="ctr">
            <a:noAutofit/>
          </a:bodyPr>
          <a:p>
            <a:pPr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i="1" lang="it-IT" sz="1200" spc="-1" strike="noStrike">
                <a:solidFill>
                  <a:srgbClr val="f2f2f2"/>
                </a:solidFill>
                <a:latin typeface="Calibri"/>
              </a:rPr>
              <a:t>funzionamento on –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i="1" lang="it-IT" sz="1200" spc="-1" strike="noStrike">
                <a:solidFill>
                  <a:srgbClr val="f2f2f2"/>
                </a:solidFill>
                <a:latin typeface="Calibri"/>
              </a:rPr>
              <a:t>(attiva l’allineamento tempor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e 42"/>
          <p:cNvSpPr/>
          <p:nvPr/>
        </p:nvSpPr>
        <p:spPr>
          <a:xfrm flipH="1">
            <a:off x="3499560" y="3643200"/>
            <a:ext cx="498600" cy="425520"/>
          </a:xfrm>
          <a:prstGeom prst="ellipse">
            <a:avLst/>
          </a:prstGeom>
          <a:solidFill>
            <a:srgbClr val="c2cd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35"/>
          <p:cNvSpPr/>
          <p:nvPr/>
        </p:nvSpPr>
        <p:spPr>
          <a:xfrm>
            <a:off x="3571920" y="3644280"/>
            <a:ext cx="2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ndar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egnaposto numero diapositiva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7F7C-3767-443C-968F-8752512A0F02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egnaposto numero diapositiva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3694-381E-4284-A542-73AFD080E044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uppo 25"/>
          <p:cNvGrpSpPr/>
          <p:nvPr/>
        </p:nvGrpSpPr>
        <p:grpSpPr>
          <a:xfrm>
            <a:off x="285840" y="231840"/>
            <a:ext cx="8715240" cy="568440"/>
            <a:chOff x="285840" y="231840"/>
            <a:chExt cx="8715240" cy="568440"/>
          </a:xfrm>
        </p:grpSpPr>
        <p:sp>
          <p:nvSpPr>
            <p:cNvPr id="139" name="Rettangolo 26"/>
            <p:cNvSpPr/>
            <p:nvPr/>
          </p:nvSpPr>
          <p:spPr>
            <a:xfrm>
              <a:off x="285840" y="231840"/>
              <a:ext cx="871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000" spc="-1" strike="noStrike">
                  <a:solidFill>
                    <a:srgbClr val="17375e"/>
                  </a:solidFill>
                  <a:latin typeface="Calibri"/>
                </a:rPr>
                <a:t>Interoperabilità SISTRI / Sistemi Informativi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Connettore 1 27"/>
            <p:cNvSpPr/>
            <p:nvPr/>
          </p:nvSpPr>
          <p:spPr>
            <a:xfrm>
              <a:off x="357120" y="800280"/>
              <a:ext cx="8501040" cy="0"/>
            </a:xfrm>
            <a:prstGeom prst="line">
              <a:avLst/>
            </a:prstGeom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Figura a mano libera 21"/>
          <p:cNvGrpSpPr/>
          <p:nvPr/>
        </p:nvGrpSpPr>
        <p:grpSpPr>
          <a:xfrm>
            <a:off x="317520" y="1590840"/>
            <a:ext cx="8296200" cy="841320"/>
            <a:chOff x="317520" y="1590840"/>
            <a:chExt cx="8296200" cy="841320"/>
          </a:xfrm>
        </p:grpSpPr>
        <p:pic>
          <p:nvPicPr>
            <p:cNvPr id="142" name="Figura a mano libera 21" descr=""/>
            <p:cNvPicPr/>
            <p:nvPr/>
          </p:nvPicPr>
          <p:blipFill>
            <a:blip r:embed="rId1"/>
            <a:stretch/>
          </p:blipFill>
          <p:spPr>
            <a:xfrm>
              <a:off x="317520" y="1590840"/>
              <a:ext cx="82962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74760" y="1643040"/>
              <a:ext cx="81867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6640" rIns="116640" tIns="116640" bIns="116640" anchor="t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alibri"/>
                </a:rPr>
                <a:t>Soggett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Figura a mano libera 101"/>
          <p:cNvGrpSpPr/>
          <p:nvPr/>
        </p:nvGrpSpPr>
        <p:grpSpPr>
          <a:xfrm>
            <a:off x="6456240" y="2176560"/>
            <a:ext cx="1895760" cy="2255760"/>
            <a:chOff x="6456240" y="2176560"/>
            <a:chExt cx="1895760" cy="2255760"/>
          </a:xfrm>
        </p:grpSpPr>
        <p:pic>
          <p:nvPicPr>
            <p:cNvPr id="145" name="Figura a mano libera 101" descr=""/>
            <p:cNvPicPr/>
            <p:nvPr/>
          </p:nvPicPr>
          <p:blipFill>
            <a:blip r:embed="rId2"/>
            <a:stretch/>
          </p:blipFill>
          <p:spPr>
            <a:xfrm>
              <a:off x="6456240" y="2176560"/>
              <a:ext cx="189576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516720" y="2214720"/>
              <a:ext cx="177948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6640" rIns="116640" tIns="116640" bIns="116640" anchor="t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it-IT" sz="1500" spc="-1" strike="noStrike">
                  <a:solidFill>
                    <a:srgbClr val="000000"/>
                  </a:solidFill>
                  <a:latin typeface="Calibri"/>
                </a:rPr>
                <a:t>Impiant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Figura a mano libera 94"/>
          <p:cNvGrpSpPr/>
          <p:nvPr/>
        </p:nvGrpSpPr>
        <p:grpSpPr>
          <a:xfrm>
            <a:off x="4498920" y="2176560"/>
            <a:ext cx="1901880" cy="2255760"/>
            <a:chOff x="4498920" y="2176560"/>
            <a:chExt cx="1901880" cy="2255760"/>
          </a:xfrm>
        </p:grpSpPr>
        <p:pic>
          <p:nvPicPr>
            <p:cNvPr id="148" name="Figura a mano libera 94" descr=""/>
            <p:cNvPicPr/>
            <p:nvPr/>
          </p:nvPicPr>
          <p:blipFill>
            <a:blip r:embed="rId3"/>
            <a:stretch/>
          </p:blipFill>
          <p:spPr>
            <a:xfrm>
              <a:off x="4498920" y="2176560"/>
              <a:ext cx="190188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562640" y="2214720"/>
              <a:ext cx="178092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6640" rIns="116640" tIns="116640" bIns="116640" anchor="t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it-IT" sz="1500" spc="-1" strike="noStrike">
                  <a:solidFill>
                    <a:srgbClr val="000000"/>
                  </a:solidFill>
                  <a:latin typeface="Calibri"/>
                </a:rPr>
                <a:t>Trasportato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Figura a mano libera 85"/>
          <p:cNvGrpSpPr/>
          <p:nvPr/>
        </p:nvGrpSpPr>
        <p:grpSpPr>
          <a:xfrm>
            <a:off x="603360" y="2176560"/>
            <a:ext cx="1895400" cy="2255760"/>
            <a:chOff x="603360" y="2176560"/>
            <a:chExt cx="1895400" cy="2255760"/>
          </a:xfrm>
        </p:grpSpPr>
        <p:pic>
          <p:nvPicPr>
            <p:cNvPr id="151" name="Figura a mano libera 85" descr=""/>
            <p:cNvPicPr/>
            <p:nvPr/>
          </p:nvPicPr>
          <p:blipFill>
            <a:blip r:embed="rId4"/>
            <a:stretch/>
          </p:blipFill>
          <p:spPr>
            <a:xfrm>
              <a:off x="603360" y="2176560"/>
              <a:ext cx="189540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65280" y="2214720"/>
              <a:ext cx="177948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6640" rIns="116640" tIns="116640" bIns="116640" anchor="t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it-IT" sz="1500" spc="-1" strike="noStrike">
                  <a:solidFill>
                    <a:srgbClr val="000000"/>
                  </a:solidFill>
                  <a:latin typeface="Calibri"/>
                </a:rPr>
                <a:t>Produtto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Segnaposto numero diapositiva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21B6-8BBC-4791-9FD6-5B40D11394A9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1"/>
          <p:cNvSpPr/>
          <p:nvPr/>
        </p:nvSpPr>
        <p:spPr>
          <a:xfrm>
            <a:off x="1076400" y="915840"/>
            <a:ext cx="7056360" cy="51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  <a:effectLst>
            <a:outerShdw dist="12727" dir="81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b">
            <a:noAutofit/>
          </a:bodyPr>
          <a:p>
            <a:pPr algn="ctr">
              <a:lnSpc>
                <a:spcPct val="100000"/>
              </a:lnSpc>
              <a:spcAft>
                <a:spcPts val="1225"/>
              </a:spcAft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Eventi verso Sis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Figura a mano libera 43"/>
          <p:cNvGrpSpPr/>
          <p:nvPr/>
        </p:nvGrpSpPr>
        <p:grpSpPr>
          <a:xfrm>
            <a:off x="774720" y="2620800"/>
            <a:ext cx="1517760" cy="470160"/>
            <a:chOff x="774720" y="2620800"/>
            <a:chExt cx="1517760" cy="470160"/>
          </a:xfrm>
        </p:grpSpPr>
        <p:pic>
          <p:nvPicPr>
            <p:cNvPr id="156" name="Figura a mano libera 43" descr=""/>
            <p:cNvPicPr/>
            <p:nvPr/>
          </p:nvPicPr>
          <p:blipFill>
            <a:blip r:embed="rId5"/>
            <a:stretch/>
          </p:blipFill>
          <p:spPr>
            <a:xfrm>
              <a:off x="774720" y="2620800"/>
              <a:ext cx="151776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835200" y="2660760"/>
              <a:ext cx="14047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6640" rIns="116640" tIns="116640" bIns="11664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N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Figura a mano libera 109"/>
          <p:cNvGrpSpPr/>
          <p:nvPr/>
        </p:nvGrpSpPr>
        <p:grpSpPr>
          <a:xfrm>
            <a:off x="4694400" y="2614680"/>
            <a:ext cx="1517400" cy="469800"/>
            <a:chOff x="4694400" y="2614680"/>
            <a:chExt cx="1517400" cy="469800"/>
          </a:xfrm>
        </p:grpSpPr>
        <p:pic>
          <p:nvPicPr>
            <p:cNvPr id="159" name="Figura a mano libera 109" descr=""/>
            <p:cNvPicPr/>
            <p:nvPr/>
          </p:nvPicPr>
          <p:blipFill>
            <a:blip r:embed="rId6"/>
            <a:stretch/>
          </p:blipFill>
          <p:spPr>
            <a:xfrm>
              <a:off x="4694400" y="2614680"/>
              <a:ext cx="15174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751280" y="2652840"/>
              <a:ext cx="14050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6640" rIns="116640" tIns="116640" bIns="11664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N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Figura a mano libera 110"/>
          <p:cNvGrpSpPr/>
          <p:nvPr/>
        </p:nvGrpSpPr>
        <p:grpSpPr>
          <a:xfrm>
            <a:off x="4711680" y="3078000"/>
            <a:ext cx="1517760" cy="463680"/>
            <a:chOff x="4711680" y="3078000"/>
            <a:chExt cx="1517760" cy="463680"/>
          </a:xfrm>
        </p:grpSpPr>
        <p:pic>
          <p:nvPicPr>
            <p:cNvPr id="162" name="Figura a mano libera 110" descr=""/>
            <p:cNvPicPr/>
            <p:nvPr/>
          </p:nvPicPr>
          <p:blipFill>
            <a:blip r:embed="rId7"/>
            <a:stretch/>
          </p:blipFill>
          <p:spPr>
            <a:xfrm>
              <a:off x="4711680" y="3078000"/>
              <a:ext cx="15177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770360" y="3112920"/>
              <a:ext cx="14050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6640" rIns="116640" tIns="116640" bIns="11664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E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Figura a mano libera 113"/>
          <p:cNvGrpSpPr/>
          <p:nvPr/>
        </p:nvGrpSpPr>
        <p:grpSpPr>
          <a:xfrm>
            <a:off x="6645240" y="2614680"/>
            <a:ext cx="1517760" cy="469800"/>
            <a:chOff x="6645240" y="2614680"/>
            <a:chExt cx="1517760" cy="469800"/>
          </a:xfrm>
        </p:grpSpPr>
        <p:pic>
          <p:nvPicPr>
            <p:cNvPr id="165" name="Figura a mano libera 113" descr=""/>
            <p:cNvPicPr/>
            <p:nvPr/>
          </p:nvPicPr>
          <p:blipFill>
            <a:blip r:embed="rId8"/>
            <a:stretch/>
          </p:blipFill>
          <p:spPr>
            <a:xfrm>
              <a:off x="6645240" y="2614680"/>
              <a:ext cx="15177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703920" y="2651040"/>
              <a:ext cx="14032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6640" rIns="116640" tIns="116640" bIns="11664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N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Figura a mano libera 114"/>
          <p:cNvGrpSpPr/>
          <p:nvPr/>
        </p:nvGrpSpPr>
        <p:grpSpPr>
          <a:xfrm>
            <a:off x="6662880" y="3071880"/>
            <a:ext cx="1517400" cy="469800"/>
            <a:chOff x="6662880" y="3071880"/>
            <a:chExt cx="1517400" cy="469800"/>
          </a:xfrm>
        </p:grpSpPr>
        <p:pic>
          <p:nvPicPr>
            <p:cNvPr id="168" name="Figura a mano libera 114" descr=""/>
            <p:cNvPicPr/>
            <p:nvPr/>
          </p:nvPicPr>
          <p:blipFill>
            <a:blip r:embed="rId9"/>
            <a:stretch/>
          </p:blipFill>
          <p:spPr>
            <a:xfrm>
              <a:off x="6662880" y="3071880"/>
              <a:ext cx="15174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723000" y="3111480"/>
              <a:ext cx="14032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6640" rIns="116640" tIns="116640" bIns="11664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E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Figura a mano libera 115"/>
          <p:cNvGrpSpPr/>
          <p:nvPr/>
        </p:nvGrpSpPr>
        <p:grpSpPr>
          <a:xfrm>
            <a:off x="2548080" y="2176560"/>
            <a:ext cx="1895400" cy="2255760"/>
            <a:chOff x="2548080" y="2176560"/>
            <a:chExt cx="1895400" cy="2255760"/>
          </a:xfrm>
        </p:grpSpPr>
        <p:pic>
          <p:nvPicPr>
            <p:cNvPr id="171" name="Figura a mano libera 115" descr=""/>
            <p:cNvPicPr/>
            <p:nvPr/>
          </p:nvPicPr>
          <p:blipFill>
            <a:blip r:embed="rId10"/>
            <a:stretch/>
          </p:blipFill>
          <p:spPr>
            <a:xfrm>
              <a:off x="2548080" y="2176560"/>
              <a:ext cx="189540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610000" y="2214720"/>
              <a:ext cx="178092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6640" rIns="116640" tIns="116640" bIns="116640" anchor="t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it-IT" sz="1500" spc="-1" strike="noStrike">
                  <a:solidFill>
                    <a:srgbClr val="000000"/>
                  </a:solidFill>
                  <a:latin typeface="Calibri"/>
                </a:rPr>
                <a:t>Intermediar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Figura a mano libera 116"/>
          <p:cNvGrpSpPr/>
          <p:nvPr/>
        </p:nvGrpSpPr>
        <p:grpSpPr>
          <a:xfrm>
            <a:off x="2700360" y="2614680"/>
            <a:ext cx="1517760" cy="469800"/>
            <a:chOff x="2700360" y="2614680"/>
            <a:chExt cx="1517760" cy="469800"/>
          </a:xfrm>
        </p:grpSpPr>
        <p:pic>
          <p:nvPicPr>
            <p:cNvPr id="174" name="Figura a mano libera 116" descr=""/>
            <p:cNvPicPr/>
            <p:nvPr/>
          </p:nvPicPr>
          <p:blipFill>
            <a:blip r:embed="rId11"/>
            <a:stretch/>
          </p:blipFill>
          <p:spPr>
            <a:xfrm>
              <a:off x="2700360" y="2614680"/>
              <a:ext cx="15177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762280" y="2652840"/>
              <a:ext cx="14032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6640" rIns="116640" tIns="116640" bIns="11664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N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Figura a mano libera 117"/>
          <p:cNvGrpSpPr/>
          <p:nvPr/>
        </p:nvGrpSpPr>
        <p:grpSpPr>
          <a:xfrm>
            <a:off x="2719440" y="3078000"/>
            <a:ext cx="1517760" cy="463680"/>
            <a:chOff x="2719440" y="3078000"/>
            <a:chExt cx="1517760" cy="463680"/>
          </a:xfrm>
        </p:grpSpPr>
        <p:pic>
          <p:nvPicPr>
            <p:cNvPr id="177" name="Figura a mano libera 117" descr=""/>
            <p:cNvPicPr/>
            <p:nvPr/>
          </p:nvPicPr>
          <p:blipFill>
            <a:blip r:embed="rId12"/>
            <a:stretch/>
          </p:blipFill>
          <p:spPr>
            <a:xfrm>
              <a:off x="2719440" y="3078000"/>
              <a:ext cx="15177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781360" y="3112920"/>
              <a:ext cx="14032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6640" rIns="116640" tIns="116640" bIns="11664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Edit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Figura a mano libera 119"/>
          <p:cNvGrpSpPr/>
          <p:nvPr/>
        </p:nvGrpSpPr>
        <p:grpSpPr>
          <a:xfrm>
            <a:off x="6669000" y="3554280"/>
            <a:ext cx="1517760" cy="468360"/>
            <a:chOff x="6669000" y="3554280"/>
            <a:chExt cx="1517760" cy="468360"/>
          </a:xfrm>
        </p:grpSpPr>
        <p:pic>
          <p:nvPicPr>
            <p:cNvPr id="180" name="Figura a mano libera 119" descr=""/>
            <p:cNvPicPr/>
            <p:nvPr/>
          </p:nvPicPr>
          <p:blipFill>
            <a:blip r:embed="rId13"/>
            <a:stretch/>
          </p:blipFill>
          <p:spPr>
            <a:xfrm>
              <a:off x="6669000" y="3554280"/>
              <a:ext cx="15177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730920" y="3592440"/>
              <a:ext cx="14032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6640" rIns="116640" tIns="116640" bIns="11664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Delete **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Figura a mano libera 120"/>
          <p:cNvGrpSpPr/>
          <p:nvPr/>
        </p:nvGrpSpPr>
        <p:grpSpPr>
          <a:xfrm>
            <a:off x="774720" y="3475080"/>
            <a:ext cx="1517760" cy="468360"/>
            <a:chOff x="774720" y="3475080"/>
            <a:chExt cx="1517760" cy="468360"/>
          </a:xfrm>
        </p:grpSpPr>
        <p:pic>
          <p:nvPicPr>
            <p:cNvPr id="183" name="Figura a mano libera 120" descr=""/>
            <p:cNvPicPr/>
            <p:nvPr/>
          </p:nvPicPr>
          <p:blipFill>
            <a:blip r:embed="rId14"/>
            <a:stretch/>
          </p:blipFill>
          <p:spPr>
            <a:xfrm>
              <a:off x="774720" y="3475080"/>
              <a:ext cx="15177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35200" y="3511440"/>
              <a:ext cx="14047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6640" rIns="116640" tIns="116640" bIns="11664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Delete 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Figura a mano libera 121"/>
          <p:cNvGrpSpPr/>
          <p:nvPr/>
        </p:nvGrpSpPr>
        <p:grpSpPr>
          <a:xfrm>
            <a:off x="4711680" y="3554280"/>
            <a:ext cx="1517760" cy="468360"/>
            <a:chOff x="4711680" y="3554280"/>
            <a:chExt cx="1517760" cy="468360"/>
          </a:xfrm>
        </p:grpSpPr>
        <p:pic>
          <p:nvPicPr>
            <p:cNvPr id="186" name="Figura a mano libera 121" descr=""/>
            <p:cNvPicPr/>
            <p:nvPr/>
          </p:nvPicPr>
          <p:blipFill>
            <a:blip r:embed="rId15"/>
            <a:stretch/>
          </p:blipFill>
          <p:spPr>
            <a:xfrm>
              <a:off x="4711680" y="3554280"/>
              <a:ext cx="15177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770360" y="3592440"/>
              <a:ext cx="14050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6640" rIns="116640" tIns="116640" bIns="11664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Delete *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uppo 8"/>
          <p:cNvGrpSpPr/>
          <p:nvPr/>
        </p:nvGrpSpPr>
        <p:grpSpPr>
          <a:xfrm>
            <a:off x="2206800" y="4575240"/>
            <a:ext cx="5403600" cy="925560"/>
            <a:chOff x="2206800" y="4575240"/>
            <a:chExt cx="5403600" cy="925560"/>
          </a:xfrm>
        </p:grpSpPr>
        <p:sp>
          <p:nvSpPr>
            <p:cNvPr id="189" name="Figura a mano libera 123"/>
            <p:cNvSpPr/>
            <p:nvPr/>
          </p:nvSpPr>
          <p:spPr>
            <a:xfrm>
              <a:off x="2206800" y="4575240"/>
              <a:ext cx="5403600" cy="284040"/>
            </a:xfrm>
            <a:prstGeom prst="pie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8240" rIns="48240" tIns="48240" bIns="4824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it-IT" sz="1600" spc="-1" strike="noStrike">
                  <a:solidFill>
                    <a:srgbClr val="eeece1"/>
                  </a:solidFill>
                  <a:latin typeface="Symbol"/>
                  <a:ea typeface="Symbol"/>
                </a:rPr>
                <a:t></a:t>
              </a:r>
              <a:r>
                <a:rPr b="0" lang="it-IT" sz="1600" spc="-1" strike="noStrike">
                  <a:solidFill>
                    <a:srgbClr val="eeece1"/>
                  </a:solidFill>
                  <a:latin typeface="Calibri"/>
                </a:rPr>
                <a:t>se creato dal soggetto e non trasportat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igura a mano libera 124"/>
            <p:cNvSpPr/>
            <p:nvPr/>
          </p:nvSpPr>
          <p:spPr>
            <a:xfrm>
              <a:off x="2206800" y="4894200"/>
              <a:ext cx="5403600" cy="285840"/>
            </a:xfrm>
            <a:prstGeom prst="pie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8240" rIns="48240" tIns="48240" bIns="4824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</a:t>
              </a:r>
              <a:r>
                <a:rPr b="0" lang="it-IT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</a:t>
              </a:r>
              <a:r>
                <a:rPr b="0" lang="it-IT" sz="1600" spc="-1" strike="noStrike">
                  <a:solidFill>
                    <a:srgbClr val="eeece1"/>
                  </a:solidFill>
                  <a:latin typeface="Symbol"/>
                  <a:ea typeface="Symbol"/>
                </a:rPr>
                <a:t></a:t>
              </a:r>
              <a:r>
                <a:rPr b="0" lang="it-IT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</a:t>
              </a:r>
              <a:r>
                <a:rPr b="0" lang="it-IT" sz="1600" spc="-1" strike="noStrike">
                  <a:solidFill>
                    <a:srgbClr val="eeece1"/>
                  </a:solidFill>
                  <a:latin typeface="Calibri"/>
                </a:rPr>
                <a:t>se creato dal soggetto e non ancora smaltit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igura a mano libera 125"/>
            <p:cNvSpPr/>
            <p:nvPr/>
          </p:nvSpPr>
          <p:spPr>
            <a:xfrm>
              <a:off x="2206800" y="5216760"/>
              <a:ext cx="5397480" cy="284040"/>
            </a:xfrm>
            <a:prstGeom prst="pie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8240" rIns="48240" tIns="48240" bIns="4824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it-IT" sz="1600" spc="-1" strike="noStrike">
                  <a:solidFill>
                    <a:srgbClr val="eeece1"/>
                  </a:solidFill>
                  <a:latin typeface="Symbol"/>
                  <a:ea typeface="Symbol"/>
                </a:rPr>
                <a:t></a:t>
              </a:r>
              <a:r>
                <a:rPr b="0" lang="it-IT" sz="1600" spc="-1" strike="noStrike">
                  <a:solidFill>
                    <a:srgbClr val="eeece1"/>
                  </a:solidFill>
                  <a:latin typeface="Calibri"/>
                </a:rPr>
                <a:t>se creato dal sogget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Figura a mano libera 22"/>
          <p:cNvGrpSpPr/>
          <p:nvPr/>
        </p:nvGrpSpPr>
        <p:grpSpPr>
          <a:xfrm>
            <a:off x="774720" y="3041640"/>
            <a:ext cx="1517760" cy="469800"/>
            <a:chOff x="774720" y="3041640"/>
            <a:chExt cx="1517760" cy="469800"/>
          </a:xfrm>
        </p:grpSpPr>
        <p:pic>
          <p:nvPicPr>
            <p:cNvPr id="193" name="Figura a mano libera 22" descr=""/>
            <p:cNvPicPr/>
            <p:nvPr/>
          </p:nvPicPr>
          <p:blipFill>
            <a:blip r:embed="rId16"/>
            <a:stretch/>
          </p:blipFill>
          <p:spPr>
            <a:xfrm>
              <a:off x="774720" y="3041640"/>
              <a:ext cx="15177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835200" y="3079800"/>
              <a:ext cx="14047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6640" rIns="116640" tIns="116640" bIns="11664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Edit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Segnaposto numero diapositiva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47C3-AD68-489F-B319-EF946947B51D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egnaposto numero diapositiva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9B36-B037-42F9-9DCA-6CFCC65C55E8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uppo 28"/>
          <p:cNvGrpSpPr/>
          <p:nvPr/>
        </p:nvGrpSpPr>
        <p:grpSpPr>
          <a:xfrm>
            <a:off x="285840" y="231840"/>
            <a:ext cx="8715240" cy="568440"/>
            <a:chOff x="285840" y="231840"/>
            <a:chExt cx="8715240" cy="568440"/>
          </a:xfrm>
        </p:grpSpPr>
        <p:sp>
          <p:nvSpPr>
            <p:cNvPr id="198" name="Rettangolo 29"/>
            <p:cNvSpPr/>
            <p:nvPr/>
          </p:nvSpPr>
          <p:spPr>
            <a:xfrm>
              <a:off x="285840" y="231840"/>
              <a:ext cx="871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000" spc="-1" strike="noStrike">
                  <a:solidFill>
                    <a:srgbClr val="17375e"/>
                  </a:solidFill>
                  <a:latin typeface="Calibri"/>
                </a:rPr>
                <a:t>Interoperabilità SISTRI / Sistemi Informativi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Connettore 1 30"/>
            <p:cNvSpPr/>
            <p:nvPr/>
          </p:nvSpPr>
          <p:spPr>
            <a:xfrm>
              <a:off x="357120" y="800280"/>
              <a:ext cx="8501040" cy="0"/>
            </a:xfrm>
            <a:prstGeom prst="line">
              <a:avLst/>
            </a:prstGeom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Figura a mano libera 31"/>
          <p:cNvGrpSpPr/>
          <p:nvPr/>
        </p:nvGrpSpPr>
        <p:grpSpPr>
          <a:xfrm>
            <a:off x="2724120" y="3535200"/>
            <a:ext cx="1519200" cy="470160"/>
            <a:chOff x="2724120" y="3535200"/>
            <a:chExt cx="1519200" cy="470160"/>
          </a:xfrm>
        </p:grpSpPr>
        <p:pic>
          <p:nvPicPr>
            <p:cNvPr id="201" name="Figura a mano libera 31" descr=""/>
            <p:cNvPicPr/>
            <p:nvPr/>
          </p:nvPicPr>
          <p:blipFill>
            <a:blip r:embed="rId17"/>
            <a:stretch/>
          </p:blipFill>
          <p:spPr>
            <a:xfrm>
              <a:off x="2724120" y="3535200"/>
              <a:ext cx="151920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86040" y="3571920"/>
              <a:ext cx="14032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6640" rIns="116640" tIns="116640" bIns="11664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Delete 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7434-689E-453B-9091-E3EA5F3D0CF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uppo 4"/>
          <p:cNvGrpSpPr/>
          <p:nvPr/>
        </p:nvGrpSpPr>
        <p:grpSpPr>
          <a:xfrm>
            <a:off x="285840" y="1357200"/>
            <a:ext cx="8572320" cy="1855800"/>
            <a:chOff x="285840" y="1357200"/>
            <a:chExt cx="8572320" cy="1855800"/>
          </a:xfrm>
        </p:grpSpPr>
        <p:grpSp>
          <p:nvGrpSpPr>
            <p:cNvPr id="205" name="Figura a mano libera 5"/>
            <p:cNvGrpSpPr/>
            <p:nvPr/>
          </p:nvGrpSpPr>
          <p:grpSpPr>
            <a:xfrm>
              <a:off x="327960" y="1376640"/>
              <a:ext cx="1232280" cy="1084320"/>
              <a:chOff x="327960" y="1376640"/>
              <a:chExt cx="1232280" cy="1084320"/>
            </a:xfrm>
          </p:grpSpPr>
          <p:pic>
            <p:nvPicPr>
              <p:cNvPr id="206" name="Figura a mano libera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27960" y="1376640"/>
                <a:ext cx="1232280" cy="108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391320" y="1425240"/>
                <a:ext cx="1110960" cy="95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276840" bIns="2768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Candara"/>
                  </a:rPr>
                  <a:t>Produtto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Figura a mano libera 6"/>
            <p:cNvSpPr/>
            <p:nvPr/>
          </p:nvSpPr>
          <p:spPr>
            <a:xfrm>
              <a:off x="1604520" y="1357200"/>
              <a:ext cx="7253640" cy="7498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5320" rIns="68400" tIns="68400" bIns="6840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andara"/>
                <a:buAutoNum type="arabicPeriod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Se non è iscritto al Sistri come produttore delega il trasportatore (passa al punto 7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andara"/>
                <a:buAutoNum type="arabicPeriod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Se è iscritto al Sistri come produttore effettua il login al Sistri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andara"/>
                <a:buAutoNum type="arabicPeriod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Compila la scheda movimento relativa al produttore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andara"/>
                <a:buAutoNum type="arabicPeriod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Inserisce la chiavetta Produttore, digita il pin e firma il movimento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Figura a mano libera 7"/>
            <p:cNvGrpSpPr/>
            <p:nvPr/>
          </p:nvGrpSpPr>
          <p:grpSpPr>
            <a:xfrm>
              <a:off x="285840" y="2198520"/>
              <a:ext cx="1328760" cy="1014480"/>
              <a:chOff x="285840" y="2198520"/>
              <a:chExt cx="1328760" cy="1014480"/>
            </a:xfrm>
          </p:grpSpPr>
          <p:pic>
            <p:nvPicPr>
              <p:cNvPr id="210" name="Figura a mano libera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2198520"/>
                <a:ext cx="1328760" cy="101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363600" y="2243520"/>
                <a:ext cx="1174320" cy="88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210240" bIns="2102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Candara"/>
                  </a:rPr>
                  <a:t>Trasportato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Figura a mano libera 8"/>
            <p:cNvSpPr/>
            <p:nvPr/>
          </p:nvSpPr>
          <p:spPr>
            <a:xfrm>
              <a:off x="1604520" y="2175480"/>
              <a:ext cx="7251840" cy="7513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5320" rIns="68400" tIns="68400" bIns="6840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andara"/>
                <a:buAutoNum type="arabicPeriod" startAt="5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Effettua il login al Sistri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andara"/>
                <a:buAutoNum type="arabicPeriod" startAt="5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Richiama la scheda inserita dal produttore e la compila per la parte trasportatore (passa al punto 8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andara"/>
                <a:buAutoNum type="arabicPeriod" startAt="5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Crea la scheda Sistri e la compila per la parte produttore/trasportatore  e la stampa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andara"/>
                <a:buAutoNum type="arabicPeriod" startAt="5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Inserisce la chiavetta Trasportatore, digita il pin e firma il movimento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Figura a mano libera 11"/>
          <p:cNvGrpSpPr/>
          <p:nvPr/>
        </p:nvGrpSpPr>
        <p:grpSpPr>
          <a:xfrm>
            <a:off x="219240" y="3297240"/>
            <a:ext cx="1249200" cy="1062000"/>
            <a:chOff x="219240" y="3297240"/>
            <a:chExt cx="1249200" cy="1062000"/>
          </a:xfrm>
        </p:grpSpPr>
        <p:pic>
          <p:nvPicPr>
            <p:cNvPr id="214" name="Figura a mano libera 11" descr=""/>
            <p:cNvPicPr/>
            <p:nvPr/>
          </p:nvPicPr>
          <p:blipFill>
            <a:blip r:embed="rId3"/>
            <a:stretch/>
          </p:blipFill>
          <p:spPr>
            <a:xfrm>
              <a:off x="219240" y="3297240"/>
              <a:ext cx="124920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285840" y="3344760"/>
              <a:ext cx="112068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250560" bIns="2505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ndara"/>
                </a:rPr>
                <a:t>Conduc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Figura a mano libera 12"/>
          <p:cNvSpPr/>
          <p:nvPr/>
        </p:nvSpPr>
        <p:spPr>
          <a:xfrm>
            <a:off x="1538280" y="3041640"/>
            <a:ext cx="7318440" cy="150012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5320" rIns="68400" tIns="68400" bIns="68400" anchor="ctr">
            <a:noAutofit/>
          </a:bodyPr>
          <a:p>
            <a:pPr lvl="1" marL="228600" indent="-22860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Candara"/>
              <a:buAutoNum type="arabicPeriod" startAt="9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ndara"/>
                <a:ea typeface="Arial"/>
              </a:rPr>
              <a:t>se il produttore e iscritto al Sistri l’autista inserisce la chiavetta Mezzo associata al black box e  il produttore stampa la sched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Candara"/>
              <a:buAutoNum type="arabicPeriod" startAt="9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andara"/>
                <a:ea typeface="Arial"/>
              </a:rPr>
              <a:t>se il produttore e non è iscritto al Sist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ndara"/>
                <a:ea typeface="Arial"/>
              </a:rPr>
              <a:t>Il conducente deve recarsi a ritirare il rifiuto con una Scheda Movimentazione prodotta in se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ndara"/>
                <a:ea typeface="Arial"/>
              </a:rPr>
              <a:t>Va valutata la possibilità di inviare un segnale di presa in carico tramite la BlackBox che effettui il matching tra le coordinate della BlackBox e le coordinate del produtto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Figura a mano libera 13"/>
          <p:cNvGrpSpPr/>
          <p:nvPr/>
        </p:nvGrpSpPr>
        <p:grpSpPr>
          <a:xfrm>
            <a:off x="225360" y="4595760"/>
            <a:ext cx="1249560" cy="1062000"/>
            <a:chOff x="225360" y="4595760"/>
            <a:chExt cx="1249560" cy="1062000"/>
          </a:xfrm>
        </p:grpSpPr>
        <p:pic>
          <p:nvPicPr>
            <p:cNvPr id="218" name="Figura a mano libera 13" descr=""/>
            <p:cNvPicPr/>
            <p:nvPr/>
          </p:nvPicPr>
          <p:blipFill>
            <a:blip r:embed="rId4"/>
            <a:stretch/>
          </p:blipFill>
          <p:spPr>
            <a:xfrm>
              <a:off x="225360" y="4595760"/>
              <a:ext cx="124956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295200" y="4643280"/>
              <a:ext cx="112068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250560" bIns="2505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ndara"/>
                </a:rPr>
                <a:t>Impia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Figura a mano libera 14"/>
          <p:cNvSpPr/>
          <p:nvPr/>
        </p:nvSpPr>
        <p:spPr>
          <a:xfrm>
            <a:off x="1538280" y="4613400"/>
            <a:ext cx="7318440" cy="92844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5320" rIns="68400" tIns="68400" bIns="68400" anchor="ctr">
            <a:noAutofit/>
          </a:bodyPr>
          <a:p>
            <a:pPr lvl="1" marL="228600" indent="-22860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Candara"/>
              <a:buAutoNum type="arabicPeriod" startAt="11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andara"/>
                <a:ea typeface="Arial"/>
              </a:rPr>
              <a:t>Effettua il login al Sist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Candara"/>
              <a:buAutoNum type="arabicPeriod" startAt="11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andara"/>
                <a:ea typeface="Arial"/>
              </a:rPr>
              <a:t>Compila la sezione della scheda movimento relativa al’impian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Candara"/>
              <a:buAutoNum type="arabicPeriod" startAt="11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ndara"/>
                <a:ea typeface="Arial"/>
              </a:rPr>
              <a:t>L’Impianto inserisce la chiavetta impianto, digitata il pin e firma il movimento o attiva la procedura di respingimen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Candara"/>
              <a:buAutoNum type="arabicPeriod" startAt="11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andara"/>
                <a:ea typeface="Arial"/>
              </a:rPr>
              <a:t>Il Conducente inserisce la chiavetta Mezzo associata al black box e conclude la moviment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1"/>
          <p:cNvSpPr/>
          <p:nvPr/>
        </p:nvSpPr>
        <p:spPr>
          <a:xfrm>
            <a:off x="2000160" y="739800"/>
            <a:ext cx="5429520" cy="512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  <a:effectLst>
            <a:outerShdw dist="12727" dir="81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b">
            <a:noAutofit/>
          </a:bodyPr>
          <a:p>
            <a:pPr algn="ctr">
              <a:lnSpc>
                <a:spcPct val="100000"/>
              </a:lnSpc>
              <a:spcAft>
                <a:spcPts val="1225"/>
              </a:spcAft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Operatività con Sis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egnaposto numero diapositiva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4057-8CF7-44F2-BF0C-88542E3030EC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egnaposto numero diapositiva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3DCA-A82E-4824-8239-CF5038E21907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uppo 18"/>
          <p:cNvGrpSpPr/>
          <p:nvPr/>
        </p:nvGrpSpPr>
        <p:grpSpPr>
          <a:xfrm>
            <a:off x="285840" y="101520"/>
            <a:ext cx="8715240" cy="568440"/>
            <a:chOff x="285840" y="101520"/>
            <a:chExt cx="8715240" cy="568440"/>
          </a:xfrm>
        </p:grpSpPr>
        <p:sp>
          <p:nvSpPr>
            <p:cNvPr id="225" name="Rettangolo 19"/>
            <p:cNvSpPr/>
            <p:nvPr/>
          </p:nvSpPr>
          <p:spPr>
            <a:xfrm>
              <a:off x="285840" y="101520"/>
              <a:ext cx="871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000" spc="-1" strike="noStrike">
                  <a:solidFill>
                    <a:srgbClr val="17375e"/>
                  </a:solidFill>
                  <a:latin typeface="Calibri"/>
                </a:rPr>
                <a:t>Interoperabilità SISTRI / Sistemi Informativi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Connettore 1 20"/>
            <p:cNvSpPr/>
            <p:nvPr/>
          </p:nvSpPr>
          <p:spPr>
            <a:xfrm>
              <a:off x="357120" y="669960"/>
              <a:ext cx="8501040" cy="0"/>
            </a:xfrm>
            <a:prstGeom prst="line">
              <a:avLst/>
            </a:prstGeom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1:36:55Z</dcterms:created>
  <dc:creator>lucam</dc:creator>
  <dc:description/>
  <dc:language>en-US</dc:language>
  <cp:lastModifiedBy>Chiara Leboffe</cp:lastModifiedBy>
  <dcterms:modified xsi:type="dcterms:W3CDTF">2010-04-09T13:49:51Z</dcterms:modified>
  <cp:revision>153</cp:revision>
  <dc:subject/>
  <dc:title>Ipotesi di applicazione ANTHEA R10  ATO Toscana Centro</dc:title>
</cp:coreProperties>
</file>