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ahoma"/>
              </a:rPr>
              <a:t>Click to move the slide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4680" y="4689000"/>
            <a:ext cx="4987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E7E6-9994-4E22-890F-EBC7A96F8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EC32-7C6A-45E3-BD37-F257A6560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4680" y="4689000"/>
            <a:ext cx="4987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B496-43D5-47D6-B40D-218E6CEF4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4680" y="4689000"/>
            <a:ext cx="4987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need a definition of the material which is under the scope of the Re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definition has to be neutral since the Regulation covers waste and end-of-waste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we additionally need a definition of this material first as waste and then as end-of-was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clear that the material is a waste, if it falls under the definition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clear that the material is end-of-waste, if it complies with the end-of-waste criteria in Ar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ybe we should provide a term which characterises the end-of-waste status in one or few words (just for convenience sake); but LS didn’t like the term ‘end-of-wast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8B56-C371-4E0D-95FB-61D1C4F5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4680" y="4689000"/>
            <a:ext cx="4987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, A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, HU,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i, FEDEREC, ERPA, BI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F592-31E0-4A40-AA2E-81C6FB19E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4680" y="4689000"/>
            <a:ext cx="4987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del applied in the field of product safety for consumer goods which are imported to the E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ght create obstacles for imports of eow materials to the 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ght not be proportionate since eow materials are destined as a raw material for industrial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tion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ational Accreditation Forum = the world association of conformity assessment bo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s of the IAF agree on standards for accreditation and verification and then mutually acknowledge accreditatio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EU MS are members of I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6920" y="347724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4884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084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476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692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084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476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4884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6920" y="347724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4884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8084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76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692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8084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76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4884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urbe"/>
          <p:cNvPicPr/>
          <p:nvPr/>
        </p:nvPicPr>
        <p:blipFill>
          <a:blip r:embed="rId2"/>
          <a:srcRect l="764" t="0" r="1168" b="21872"/>
          <a:stretch/>
        </p:blipFill>
        <p:spPr>
          <a:xfrm>
            <a:off x="0" y="5229360"/>
            <a:ext cx="9142560" cy="163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spcBef>
                <a:spcPts val="499"/>
              </a:spcBef>
              <a:spcAft>
                <a:spcPts val="499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2" marL="1406520" indent="-228600">
              <a:spcBef>
                <a:spcPts val="499"/>
              </a:spcBef>
              <a:spcAft>
                <a:spcPts val="499"/>
              </a:spcAft>
              <a:buClr>
                <a:srgbClr val="006c9a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3" marL="1814400" indent="-228600">
              <a:spcBef>
                <a:spcPts val="499"/>
              </a:spcBef>
              <a:spcAft>
                <a:spcPts val="499"/>
              </a:spcAft>
              <a:buClr>
                <a:srgbClr val="82cbee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2222640" indent="-22860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222264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222264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3"/>
          <a:stretch/>
        </p:blipFill>
        <p:spPr>
          <a:xfrm>
            <a:off x="6886440" y="6165720"/>
            <a:ext cx="2016360" cy="285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4"/>
          <a:stretch/>
        </p:blipFill>
        <p:spPr>
          <a:xfrm>
            <a:off x="324000" y="6161040"/>
            <a:ext cx="568080" cy="5619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5"/>
          <a:stretch/>
        </p:blipFill>
        <p:spPr>
          <a:xfrm>
            <a:off x="7192800" y="6499080"/>
            <a:ext cx="1403640" cy="1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Freeform 2"/>
          <p:cNvGrpSpPr/>
          <p:nvPr/>
        </p:nvGrpSpPr>
        <p:grpSpPr>
          <a:xfrm>
            <a:off x="-49320" y="-42840"/>
            <a:ext cx="9309240" cy="5791320"/>
            <a:chOff x="-49320" y="-42840"/>
            <a:chExt cx="9309240" cy="5791320"/>
          </a:xfrm>
        </p:grpSpPr>
        <p:pic>
          <p:nvPicPr>
            <p:cNvPr id="43" name="Freeform 2" descr=""/>
            <p:cNvPicPr/>
            <p:nvPr/>
          </p:nvPicPr>
          <p:blipFill>
            <a:blip r:embed="rId2"/>
            <a:stretch/>
          </p:blipFill>
          <p:spPr>
            <a:xfrm>
              <a:off x="-49320" y="-42840"/>
              <a:ext cx="930924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-42840" y="-34920"/>
              <a:ext cx="9294840" cy="57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3" descr="courbe"/>
          <p:cNvPicPr/>
          <p:nvPr/>
        </p:nvPicPr>
        <p:blipFill>
          <a:blip r:embed="rId3"/>
          <a:srcRect l="764" t="0" r="1168" b="21872"/>
          <a:stretch/>
        </p:blipFill>
        <p:spPr>
          <a:xfrm>
            <a:off x="0" y="5229360"/>
            <a:ext cx="9142560" cy="1630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4"/>
          <a:stretch/>
        </p:blipFill>
        <p:spPr>
          <a:xfrm>
            <a:off x="6886440" y="6165720"/>
            <a:ext cx="2016360" cy="285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5"/>
          <a:stretch/>
        </p:blipFill>
        <p:spPr>
          <a:xfrm>
            <a:off x="324000" y="6161040"/>
            <a:ext cx="56808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6"/>
          <a:stretch/>
        </p:blipFill>
        <p:spPr>
          <a:xfrm>
            <a:off x="7192800" y="6499080"/>
            <a:ext cx="1403640" cy="16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spcBef>
                <a:spcPts val="499"/>
              </a:spcBef>
              <a:spcAft>
                <a:spcPts val="499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2" marL="1406520" indent="-228600">
              <a:spcBef>
                <a:spcPts val="499"/>
              </a:spcBef>
              <a:spcAft>
                <a:spcPts val="499"/>
              </a:spcAft>
              <a:buClr>
                <a:srgbClr val="006c9a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3" marL="1814400" indent="-228600">
              <a:spcBef>
                <a:spcPts val="499"/>
              </a:spcBef>
              <a:spcAft>
                <a:spcPts val="499"/>
              </a:spcAft>
              <a:buClr>
                <a:srgbClr val="82cbee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2222640" indent="-22860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222264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222264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NA004492bis"/>
          <p:cNvPicPr/>
          <p:nvPr/>
        </p:nvPicPr>
        <p:blipFill>
          <a:blip r:embed="rId1"/>
          <a:stretch/>
        </p:blipFill>
        <p:spPr>
          <a:xfrm>
            <a:off x="-36360" y="-27000"/>
            <a:ext cx="3120840" cy="2060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348000" y="112536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U001786bis"/>
          <p:cNvPicPr/>
          <p:nvPr/>
        </p:nvPicPr>
        <p:blipFill>
          <a:blip r:embed="rId2"/>
          <a:stretch/>
        </p:blipFill>
        <p:spPr>
          <a:xfrm>
            <a:off x="3059280" y="-27000"/>
            <a:ext cx="3119400" cy="205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T001559bis"/>
          <p:cNvPicPr/>
          <p:nvPr/>
        </p:nvPicPr>
        <p:blipFill>
          <a:blip r:embed="rId3"/>
          <a:stretch/>
        </p:blipFill>
        <p:spPr>
          <a:xfrm>
            <a:off x="6156360" y="-27000"/>
            <a:ext cx="3120840" cy="2060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18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d-of-waste criteria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aper, glass, copper</a:t>
            </a:r>
            <a:br>
              <a:rPr sz="3200"/>
            </a:b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horizontal issues</a:t>
            </a:r>
            <a:endParaRPr b="1" lang="en-US" sz="32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407628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s Versmann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uropean Commission – DG Environment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042920" y="6165720"/>
            <a:ext cx="45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ussels – Jul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Issues of high importance for all 3 drafts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Definitions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Restricting end-of-waste to material with a certain destination (paper mills, glass re-melting)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Introducing a mandatory monitoring system for the shipment of end-of-waste material (based on Statement of Conformity)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Improving Quality Management Systems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-31644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Definitions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907920"/>
            <a:ext cx="7993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Arial"/>
              </a:rPr>
              <a:t>Draft Regulation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iron and steel scrap, aluminium scrap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recovered paper, glass cullet, copper scrap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definitions neutral as regards legal classification as waste or end-of-waste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Arial"/>
              </a:rPr>
              <a:t>Proposal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Introduce separate definitions for waste used as input and end-of-waste material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Change ‘recovered paper’ to ‘paper for recycling’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Arial"/>
              </a:rPr>
              <a:t>Assessment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Neutral definition needed since Regulation covers waste and end-of-waste material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Legal clarity provided by waste definition (WFD) and end-of-waste criteria (Art 3)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Is there a short term (end-of-waste paper, glass, copper scrap) in legal languages?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0f0f"/>
                </a:solidFill>
                <a:latin typeface="Arial"/>
              </a:rPr>
              <a:t>Alternatives for ‘recovered’ paper should be inquired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Restricting end-of-waste to material </a:t>
            </a:r>
            <a:br>
              <a:rPr sz="2600"/>
            </a:b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with a certain destination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848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Draft Regulation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Paper destined for the reclamation of paper-fibres for paper manufacturing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Glass cullet destined for the production of glass subtances or objects in re-melting processes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Proposa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Delete restriction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Reason: monitoring, legal certainty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Assessmen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End-of-waste criteria can only be defined for specific uses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Strict purity thresholds provide high quality material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Value of the high quality material makes uses with lower quality requirements unlikely 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Introducing a mandatory monitoring system for the shipment of end-of-waste material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Draft Regulation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Statement of conformity for each end-of-waste consignment to be issued by the producer/importer of the end-of-waste material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No mandatory monitoring system for the further shipment of end-of-waste material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Proposa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Mandatory transfer of the Statement of Conformity to subsequent holders of the end-of-waste material throughout further transportation chain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Record keeping 2 years (copies)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The material management chain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1341360"/>
          <a:ext cx="8785440" cy="3203640"/>
        </p:xfrm>
        <a:graphic>
          <a:graphicData uri="http://schemas.openxmlformats.org/drawingml/2006/table">
            <a:tbl>
              <a:tblPr/>
              <a:tblGrid>
                <a:gridCol w="1096920"/>
                <a:gridCol w="1100160"/>
                <a:gridCol w="1096920"/>
                <a:gridCol w="1100160"/>
                <a:gridCol w="1097280"/>
                <a:gridCol w="917280"/>
                <a:gridCol w="1224000"/>
                <a:gridCol w="1152720"/>
              </a:tblGrid>
              <a:tr h="646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Waste under waste legis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Product under product legis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tr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Processing into end-of-waste mat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tr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Industrial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Waste docu-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Waste docu-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Input: Waste docu-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Output: State-ment of Conform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(So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SoC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SoC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SoC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SoC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35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11" name="AutoShape 56"/>
          <p:cNvSpPr/>
          <p:nvPr/>
        </p:nvSpPr>
        <p:spPr>
          <a:xfrm>
            <a:off x="1547640" y="4869000"/>
            <a:ext cx="6193080" cy="485640"/>
          </a:xfrm>
          <a:prstGeom prst="rightArrow">
            <a:avLst>
              <a:gd name="adj1" fmla="val 50000"/>
              <a:gd name="adj2" fmla="val 31881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Introducing a mandatory monitoring system for the shipment of end-of-waste material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Assessmen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Material complying with end-of-waste criteria should be free of risks which needs waste monitoring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Mandatory monitoring system for end-of-waste materials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2" marL="1406520" indent="-228600">
              <a:spcBef>
                <a:spcPts val="201"/>
              </a:spcBef>
              <a:spcAft>
                <a:spcPts val="201"/>
              </a:spcAft>
              <a:buClr>
                <a:srgbClr val="006c9a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0f0f"/>
                </a:solidFill>
                <a:latin typeface="Arial"/>
              </a:rPr>
              <a:t>would create new administrative burdens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2" marL="1406520" indent="-228600">
              <a:spcBef>
                <a:spcPts val="201"/>
              </a:spcBef>
              <a:spcAft>
                <a:spcPts val="201"/>
              </a:spcAft>
              <a:buClr>
                <a:srgbClr val="006c9a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0f0f"/>
                </a:solidFill>
                <a:latin typeface="Arial"/>
              </a:rPr>
              <a:t>would need additional provisions in case of separating/mixing consignments 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2" marL="1406520" indent="-228600">
              <a:spcBef>
                <a:spcPts val="201"/>
              </a:spcBef>
              <a:spcAft>
                <a:spcPts val="201"/>
              </a:spcAft>
              <a:buClr>
                <a:srgbClr val="006c9a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0f0f"/>
                </a:solidFill>
                <a:latin typeface="Arial"/>
              </a:rPr>
              <a:t>can it be based on waste legislation?</a:t>
            </a:r>
            <a:endParaRPr b="0" lang="en-US" sz="16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In practice the burden of proof of end-of-waste is always at the holder of the material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Improving Quality Management Systems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Draft Regulation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Producer of end-of-waste material has to provide a QM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QM to be verified by independent and accredited verifier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No accreditation requirement for verifiers in non-EU countries 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Proposa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Introduction of an accreditation requirement for verifiers in non-EU countries 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Option 1: accreditation at a European conformity assessment body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Option 2: accreditation at a member of the International Accreditation Forum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Assessmen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Improving Quality Management Systems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Assessmen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Option 2 seems to be more appropriate for imports of goods which are not directly sold to the end-consumer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spcBef>
                <a:spcPts val="451"/>
              </a:spcBef>
              <a:spcAft>
                <a:spcPts val="451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0f0f"/>
                </a:solidFill>
                <a:latin typeface="Arial"/>
              </a:rPr>
              <a:t>Commission will have to discuss with the European Cooperation for Accreditation</a:t>
            </a: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0f0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8:10:22Z</dcterms:created>
  <dc:creator>Office 2004 Test Drive-Benutzer</dc:creator>
  <dc:description/>
  <dc:language>en-US</dc:language>
  <cp:lastModifiedBy>Laetitia</cp:lastModifiedBy>
  <cp:lastPrinted>2003-04-04T11:56:42Z</cp:lastPrinted>
  <dcterms:modified xsi:type="dcterms:W3CDTF">2011-07-06T15:08:24Z</dcterms:modified>
  <cp:revision>64</cp:revision>
  <dc:subject/>
  <dc:title>Solid waste management EU policies and legislation</dc:title>
</cp:coreProperties>
</file>